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6.jpeg" ContentType="image/jpe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7.wmf" ContentType="image/x-wmf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2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722160"/>
            <a:ext cx="480852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FBEC-1C9E-4B58-849B-D98BFEAB0CF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еределать картинк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Добавить новую картинку пособие по проектированию (взять у Терехов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216-D227-4CE6-908E-1CBA2CE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8B-AE48-42E1-B717-C884299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2BE-AA22-491B-903D-185199BE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A4A-ACFF-4FF9-93B8-CA208A2D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78E-16FD-4E46-9086-032F996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EA8-1682-4061-9F2C-7D9B729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63D-525D-4F2E-808B-5EEA8E6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12B-EAEC-4108-AB12-C318398D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951-B3B1-4448-BC11-A4D567C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7C5-ABDA-40BF-9F7B-6214FCA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B7F-0B46-4F98-9FC7-08230FCC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89F-3A3C-4BDE-B53A-3BE3C2E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4BA6-37BA-487E-B6F5-E0C71BB79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3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44.png"/><Relationship Id="rId4" Type="http://schemas.openxmlformats.org/officeDocument/2006/relationships/image" Target="../media/image5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4.png"/><Relationship Id="rId4" Type="http://schemas.openxmlformats.org/officeDocument/2006/relationships/image" Target="../media/image40.png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4762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ahoma"/>
              </a:rPr>
              <a:t>ВСЕ СВЯЗИ СТРЕЛЬЦА</a:t>
            </a:r>
            <a:r>
              <a:rPr b="1" lang="en-US" sz="54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" descr="Argus-Spectr_Strelec-collazh-newкопирование"/>
          <p:cNvPicPr/>
          <p:nvPr/>
        </p:nvPicPr>
        <p:blipFill>
          <a:blip r:embed="rId2"/>
          <a:stretch/>
        </p:blipFill>
        <p:spPr>
          <a:xfrm>
            <a:off x="5435640" y="1844640"/>
            <a:ext cx="313704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943760" cy="442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27640" y="3429000"/>
            <a:ext cx="1584360" cy="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80536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916280"/>
            <a:ext cx="54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сопря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С-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язь с ПЦН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льтовых 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м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22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265800" cy="447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083440" cy="4665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51280" y="3357360"/>
            <a:ext cx="2521080" cy="431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933720"/>
            <a:ext cx="1008000" cy="10810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92720" y="3573000"/>
            <a:ext cx="1008000" cy="136836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205000"/>
            <a:ext cx="547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диопередающее устройств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рг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ставе СПИ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15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сигналов на 4 частот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улировка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076400" cy="36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753080" cy="415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5761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1916280"/>
            <a:ext cx="5545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автоматического вызова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АВ исп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околы «Contact ID»/«Аргус-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дозвон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а в ПО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1280" y="3213000"/>
            <a:ext cx="1944360" cy="1873080"/>
            <a:chOff x="611280" y="3213000"/>
            <a:chExt cx="1944360" cy="187308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11280" y="3213000"/>
              <a:ext cx="1944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82240" y="4472640"/>
              <a:ext cx="96120" cy="10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040360" cy="4407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63374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О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1916280"/>
            <a:ext cx="421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АРМ ПЦ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фические пла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8 систем на 1 П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413240" cy="515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16360" y="4508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труктура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27640" y="191628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фигур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систем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ервер аппара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за да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752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916280"/>
            <a:ext cx="4825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Детальная информация на ПЦН по различным каналам связи 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Новое ПО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нтеграция с другими системам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ые возмож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59076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319480" cy="271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56000" y="1628640"/>
            <a:ext cx="62532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619280" y="2924280"/>
            <a:ext cx="7905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азвити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1700280"/>
            <a:ext cx="4788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М ПЦ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из П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на уровне программного обеспечения: «Аккорд-512», «Спектр», «Кронвер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таблиц программир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625840" cy="306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046680" cy="201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0920" y="3573360"/>
            <a:ext cx="2259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149720"/>
            <a:ext cx="7559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стемы передачи изв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налы сотовой связ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, C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559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тегрированные системы безопас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еонаблю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 доступ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916280"/>
            <a:ext cx="64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ИНТЕЛЛЕК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-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гма-ИС       (ИСБ «Рубеж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лектронные системы (АПК «Бастион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084720" y="2708280"/>
          <a:ext cx="288612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708280"/>
                    <a:ext cx="2886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11280" y="4508640"/>
            <a:ext cx="561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32720" y="1773360"/>
            <a:ext cx="1655640" cy="662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948360" y="5373720"/>
            <a:ext cx="20289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6732720" y="4508640"/>
          <a:ext cx="223200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508640"/>
                    <a:ext cx="22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084720" y="3645000"/>
          <a:ext cx="288000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3645000"/>
                    <a:ext cx="28800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2378160" cy="996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2060640"/>
            <a:ext cx="698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ОО НТКФ «Си-Норд» (Андромед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АСБ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единение О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ПО «Центр-Прот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Рубеж»  (Цербе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164360" y="3429000"/>
          <a:ext cx="13683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3429000"/>
                    <a:ext cx="13683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437000"/>
            <a:ext cx="158436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7308720" y="5300640"/>
          <a:ext cx="986040" cy="101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5300640"/>
                    <a:ext cx="986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659640" y="2708280"/>
          <a:ext cx="2041560" cy="59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9640" y="2708280"/>
                    <a:ext cx="2041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133720"/>
            <a:ext cx="46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ПП 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лс»  (Мираж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Рит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СШ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TELEmonitor Oy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РИЭЛТА» СПИ «Зар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04000" y="2781360"/>
          <a:ext cx="129528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781360"/>
                    <a:ext cx="12952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020000" y="1700280"/>
            <a:ext cx="934920" cy="880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443640" y="4869000"/>
            <a:ext cx="2286000" cy="2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7020000" y="3645000"/>
          <a:ext cx="936720" cy="87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3645000"/>
                    <a:ext cx="936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588000" y="5589720"/>
            <a:ext cx="2016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066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042920" y="5734080"/>
            <a:ext cx="2232000" cy="52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1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19640" y="299736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06920" y="5734080"/>
            <a:ext cx="453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ппаратно-программный комплекс «Басти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1916280"/>
            <a:ext cx="42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Электронные систем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948360" y="260280"/>
            <a:ext cx="2028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91628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1" lang="ru-RU" sz="2400" spc="-1" strike="noStrike" baseline="30000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724560" cy="289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87280" y="6093000"/>
            <a:ext cx="2232360" cy="52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40360" y="6093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3664080" cy="30812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564000" y="2205000"/>
            <a:ext cx="143964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651640" y="6093000"/>
            <a:ext cx="2663640" cy="477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7380360" y="260280"/>
            <a:ext cx="1476360" cy="590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110200" y="2133720"/>
            <a:ext cx="3854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 ЗАО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теграц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вне 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ппарат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716360" cy="330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539640" y="5516640"/>
          <a:ext cx="403884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5516640"/>
                    <a:ext cx="40388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537080" cy="2852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2413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916360" y="2997360"/>
            <a:ext cx="2087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407664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20500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Постанов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на охра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076720" y="4437000"/>
            <a:ext cx="122400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5445000"/>
            <a:ext cx="27352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56610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Откры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двер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our" descr=""/>
          <p:cNvPicPr/>
          <p:nvPr/>
        </p:nvPicPr>
        <p:blipFill>
          <a:blip r:embed="rId4"/>
          <a:stretch/>
        </p:blipFill>
        <p:spPr>
          <a:xfrm>
            <a:off x="2124000" y="5373720"/>
            <a:ext cx="86220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611280" y="5013360"/>
          <a:ext cx="78408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013360"/>
                    <a:ext cx="7840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547640" y="5589720"/>
            <a:ext cx="57636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00720" y="39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4797360"/>
            <a:ext cx="72720" cy="79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4653000"/>
            <a:ext cx="28728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2124000" y="4365720"/>
            <a:ext cx="43200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7020000" y="4797360"/>
            <a:ext cx="86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N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508720" y="3068640"/>
            <a:ext cx="2857320" cy="2400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56360" y="5661000"/>
            <a:ext cx="1809720" cy="55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71636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308720" y="189000"/>
            <a:ext cx="1657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трелец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в составе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962520" cy="431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11640" y="1989000"/>
            <a:ext cx="4932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едача извещений по различным каналам связи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сети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96728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НПП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03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885080" y="41400"/>
            <a:ext cx="934920" cy="880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84720" y="5734080"/>
            <a:ext cx="24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АЖ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1743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44040" cy="433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211640" y="3499920"/>
            <a:ext cx="1441440" cy="287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4365720"/>
            <a:ext cx="1512720" cy="2872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060640"/>
            <a:ext cx="57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ультов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П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телефоны пользователей и/или ПЦН (ПО «Атлас-20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авление систем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2060640"/>
            <a:ext cx="54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-C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радиосист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параметров и программирование системного 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832360" cy="365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671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05492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81976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5800680" cy="448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1844640"/>
            <a:ext cx="6697800" cy="453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6697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205000"/>
            <a:ext cx="4032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клю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к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к РРОП-К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т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05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9:32:43Z</dcterms:created>
  <dc:creator>Mikhail Levtchouk</dc:creator>
  <dc:description/>
  <dc:language>en-US</dc:language>
  <cp:lastModifiedBy>evgeniya</cp:lastModifiedBy>
  <dcterms:modified xsi:type="dcterms:W3CDTF">2007-07-19T10:09:53Z</dcterms:modified>
  <cp:revision>405</cp:revision>
  <dc:subject/>
  <dc:title>СТРЕЛЕЦ® </dc:title>
</cp:coreProperties>
</file>