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72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0800"/>
            <a:ext cx="292752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0800"/>
            <a:ext cx="292716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2CA4-E799-4EE3-9F34-7A527DFCF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следующего выступления «Беспроводное расширение и новые возможности адресно-аналоговых пожар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уга-240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дымовые извещатели серии «Аврора» имеют одинаковую конструкцию дымовой камеры, которая обеспечив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ую симметричность – одинаковую чувствительность независимо от направления с которого дым заходит в дымовую кам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ую сетку для защиты от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ойной пылесборник для предотвращения попадания пыли в дымовую камеру. Т.е. конструкция такова, что с одной стороны обеспечивается определенное препятствие, чтобы пыль из заходящего в извещатель воздуха успевала осесть в пылесборниках, а с другой стороны обеспечивается и достаточная вентилируемость дымовой камеры для раннего обнаружения ды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щатели представлены целой линейкой – адресно-аналоговые извещ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мов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ны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ч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что эти извещатели соответствуют Российским нормам, они удовлетворяют и Европейским норма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-5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то подтверждено Британским Институтом Стандар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модули представлены входными модулями с контролем входа на обрыв и короткое замы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ыми модулями, как с контролем выходной цепи, так и с обычным релейным вы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и звуковой оповещатель «Терция-А» с питанием по сигнальной ли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одули кроме обычного исполнения имеют и мини-исполнение с дополнительной буквой «М» в назв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ится и микро-исполнение моду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я уже говорил одной из важных особенностей Радуги-240 является возможность использования беспроводного расширения на базе радиосистемы Стреле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десь особенно хотелось бы обратить внимание на то, что радиоканальный протокол Аргус-Диалог также является адресно-аналоговым. Т.е. имеется возможность передавать аналоговое значение от беспроводных пожарных извещ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диоканальном сегмента системы используются 10 радиочастотных ка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вещатель «виден» на приборе отдельно, следовательно может быть до 240 извещателей в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ждый извещатель может работать до 7,5 лет от основной батареи и 2 месяца от резерв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водных и радиоканальных извещателей и модулей достаточно велик. И какая бы не стояла задача по организации системы пожарной сигнализации ее можно решить как с использование проводных, так и с использованием радиоканальных устройств. Но самое интересное решение – их совместное приме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ясь к самому прибору приемно-контрольному «Радуга-240» хотелось отметить, что прибор может иметь 2 или 4 сигнальные ли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0 устройств в СЛ, всего 800 извещателей и модулей могут быть подключены к одному такому приб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800 устройств могут быть программно объединены в 500 пожарных зон контроля. Часть из них (16, 48 или 96) могут быть дополнительно выведены на светодиодные индикаторы на передней пан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ально может быть установлен термо-прин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и это не все. 64 таких прибора могут быть объединены в единую с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 мы располагаем проводные извещатели и модули и радиосег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внутренняя ли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485 позволяет подключить 32 дополнительных модуля или «повторител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всего таких приборов в сети может быть 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еются и специальные приборы без СЛ, которые позволяют организовать пожарный пост такой системы в любом удоб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оме адресно-аналоговой системы Радуга-240 есть еще несколько новинок о которых тоже хотелось бы рассказ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ился извещатель Аврора-ДА. Изменена конструктивная схема приб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лся долгожданный тепловой и комбинированный адресные извещатели для работы в СЛ приборов Радуга-2А и Радуга-4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чну я с самого прибора «Радуга-240», его основной отличительной че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того, что это адресно-аналоговый прибор, он позволяет объединить проводную адресно-аналоговую систему с беспроводной и тоже адресно-аналоговой системой Стреле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зможности такого объединения можно проиллюстрировать на примере много-этажного з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новился Блок Речевого Оповещения (БРО) проводной системы Орф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 имеет 16 выходов с суммарной мощностью 16 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школ (в соответствии с НПБ 104-03) появилась возможность раздельного оповещения сначала персонала, а затем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 хранит 4 сообщения общей продолжительностью 32 с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еется линейный вход подключения трансляции, например ГО и ЧС и выход неиспр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новились внутренние схемы пусковых цепей приборов ППКУП «Старт-А» и «Старт-4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ньше могли возникать трудности при использовании пиропатронов, у которых один из контактов висит на «земле» из-за их неправильного под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вязи с изменением пусковых цепей появился отдельный выход для подключения прибора «Старт-8». Ране Старт-8 подключался непосредственно на пусковые вы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терпел изменения и сам прибор Старт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его выходы оповещения контролируются обратной полярностью. Это позволило избежать взмаргивания табличек и щелчки в звуковых оповещателях. Т.к. теперь контролируется наличие оконечного элемента в цепи оповещения можно включать несколько оповещателей с общим током до 2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скадного подключения следующего прибора Старт-8 появился отдельный вы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в рамках каждого этажа создается беспроводная система состоящая из нескольких радиорасширителей, а также извещателей и исполнительны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все эти радиоканальные этажные системы объединяются проводной сигнальной линией в единую проводную адресно-аналогов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мся к самой проводной част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основой является полностью цифровой протоко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sDI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зволяет включить в сигнальную линию 240 устройств (извещателей и модулей в различных комбинаци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мотря на такое большой число адресов, протокол устроен так, что время доставки сигнала «Пожар» не превышает 1 сек, а «Неисправность» - 10 с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н алгоритм «Распределенный интеллект», когда решение о пожаре принимает не сама панель, как это устроено в большинстве аналогичных адресно-аналоговых систем, а панель совместно с самим извещ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адресно-аналоговые системы могут указать на неисправ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ойн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цию, когда в СЛ имеется два и более устройств с одним адре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обнаружения двойной адресации протокол позволяет выдать команду на включение светодиодов для индикации самих «двойников» и быстрого устранения данной неиспра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секрет, что параметры кабельной системы со временем «уходят», например происходит окисление конт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стема позволяет отслеживать это и подстраивать параметры протокола для обеспечения надежной и быстрой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надежной работы и устойчивости системы с таким большим числом устройств на сигнальной линии в каждом такое устройство имеется изоляторы коротких замыканий. Т.е. однократный обрыв или короткое замыкание сигнальной линии не приведет к выходу из строя ни одного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токол позволяет проводить автоматическую или ручную адресацию устройств. Для ручной адресации применяется программатор «Аврора-3П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6440" y="4687920"/>
            <a:ext cx="5403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я от протокола к самим извещателям необходимо отметить, что дымовые извещатели имеют двухступенчатые (аппаратные и программые) алгоритмы компенсации внешней засв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ьная передача на контрольный прибор аналоговых значений теплового и дымового каналов для комбинированных извещателей Аврора-ДТАА позволяет организовать на контрольном приборе адаптивный анализ обоих кан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59D-E30B-4BD9-84C6-787B8E3A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413-F7C6-4BB3-BDF4-1266C350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6FE-01FC-415E-BD08-188121B5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53D-F545-418E-B1BC-39CBB328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14F-5BB3-4BE0-9D86-ADB39572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5C9-6E5C-4A46-8482-28012A6A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022-21DF-412C-963F-495493A7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615-00AB-4205-AADE-3533677C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ABF-2FDC-491A-BC3F-62AF04FB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CB7-13B4-44CC-858F-F6ECEAF3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BBF-D6B2-4951-8135-0FBE5451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9E9-0541-41CD-820A-AE36D1FD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3E0D-AC7D-45AC-AAB1-D55799E10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3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3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5.png"/><Relationship Id="rId19" Type="http://schemas.openxmlformats.org/officeDocument/2006/relationships/image" Target="../media/image2.png"/><Relationship Id="rId20" Type="http://schemas.openxmlformats.org/officeDocument/2006/relationships/image" Target="../media/image27.png"/><Relationship Id="rId21" Type="http://schemas.openxmlformats.org/officeDocument/2006/relationships/oleObject" Target="../embeddings/oleObject2.bin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23.png"/><Relationship Id="rId26" Type="http://schemas.openxmlformats.org/officeDocument/2006/relationships/image" Target="../media/image22.png"/><Relationship Id="rId27" Type="http://schemas.openxmlformats.org/officeDocument/2006/relationships/image" Target="../media/image24.png"/><Relationship Id="rId28" Type="http://schemas.openxmlformats.org/officeDocument/2006/relationships/image" Target="../media/image3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2.png"/><Relationship Id="rId35" Type="http://schemas.openxmlformats.org/officeDocument/2006/relationships/image" Target="../media/image27.png"/><Relationship Id="rId36" Type="http://schemas.openxmlformats.org/officeDocument/2006/relationships/oleObject" Target="../embeddings/oleObject3.bin"/><Relationship Id="rId37" Type="http://schemas.openxmlformats.org/officeDocument/2006/relationships/image" Target="../media/image28.png"/><Relationship Id="rId38" Type="http://schemas.openxmlformats.org/officeDocument/2006/relationships/image" Target="../media/image29.png"/><Relationship Id="rId39" Type="http://schemas.openxmlformats.org/officeDocument/2006/relationships/image" Target="../media/image30.png"/><Relationship Id="rId40" Type="http://schemas.openxmlformats.org/officeDocument/2006/relationships/image" Target="../media/image23.png"/><Relationship Id="rId41" Type="http://schemas.openxmlformats.org/officeDocument/2006/relationships/image" Target="../media/image22.png"/><Relationship Id="rId42" Type="http://schemas.openxmlformats.org/officeDocument/2006/relationships/image" Target="../media/image24.png"/><Relationship Id="rId43" Type="http://schemas.openxmlformats.org/officeDocument/2006/relationships/image" Target="../media/image3.png"/><Relationship Id="rId44" Type="http://schemas.openxmlformats.org/officeDocument/2006/relationships/image" Target="../media/image31.png"/><Relationship Id="rId45" Type="http://schemas.openxmlformats.org/officeDocument/2006/relationships/image" Target="../media/image32.png"/><Relationship Id="rId46" Type="http://schemas.openxmlformats.org/officeDocument/2006/relationships/image" Target="../media/image33.png"/><Relationship Id="rId47" Type="http://schemas.openxmlformats.org/officeDocument/2006/relationships/image" Target="../media/image34.png"/><Relationship Id="rId48" Type="http://schemas.openxmlformats.org/officeDocument/2006/relationships/image" Target="../media/image35.png"/><Relationship Id="rId49" Type="http://schemas.openxmlformats.org/officeDocument/2006/relationships/slideLayout" Target="../slideLayouts/slideLayout2.xml"/><Relationship Id="rId5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8.png"/><Relationship Id="rId15" Type="http://schemas.openxmlformats.org/officeDocument/2006/relationships/image" Target="../media/image6.png"/><Relationship Id="rId16" Type="http://schemas.openxmlformats.org/officeDocument/2006/relationships/image" Target="../media/image9.png"/><Relationship Id="rId17" Type="http://schemas.openxmlformats.org/officeDocument/2006/relationships/image" Target="../media/image5.jpeg"/><Relationship Id="rId18" Type="http://schemas.openxmlformats.org/officeDocument/2006/relationships/image" Target="../media/image6.png"/><Relationship Id="rId19" Type="http://schemas.openxmlformats.org/officeDocument/2006/relationships/image" Target="../media/image7.jpe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8.png"/><Relationship Id="rId29" Type="http://schemas.openxmlformats.org/officeDocument/2006/relationships/image" Target="../media/image6.png"/><Relationship Id="rId30" Type="http://schemas.openxmlformats.org/officeDocument/2006/relationships/image" Target="../media/image9.png"/><Relationship Id="rId31" Type="http://schemas.openxmlformats.org/officeDocument/2006/relationships/slideLayout" Target="../slideLayouts/slideLayout2.xml"/><Relationship Id="rId3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7.jpe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7.jpe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7.jpe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3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slideLayout" Target="../slideLayouts/slideLayout2.xml"/><Relationship Id="rId5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187280" y="6302520"/>
            <a:ext cx="7746840" cy="439560"/>
            <a:chOff x="1187280" y="6302520"/>
            <a:chExt cx="7746840" cy="4395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8459640" y="6302520"/>
              <a:ext cx="4744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187280" y="6375240"/>
              <a:ext cx="7127640" cy="25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06360" y="206064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еспроводное расширение и новые возможности адресно-аналоговых пожарных систе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дуга-24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2360" y="1773360"/>
            <a:ext cx="37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мметричность дымовой ка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щита от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войной пылесбор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а отраж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16000" y="2023920"/>
            <a:ext cx="2041560" cy="2041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50920" y="4406760"/>
            <a:ext cx="2041560" cy="1435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746760" y="4422600"/>
            <a:ext cx="2027520" cy="1401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6732720" y="2343240"/>
            <a:ext cx="20304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242100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рора-ДА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рора-ТА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рора-ДТА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132000" y="4508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рантия –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3860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ПР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68360" y="2600280"/>
            <a:ext cx="2233440" cy="1077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92000" y="3860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у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242100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ходные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В-1, ММВ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284720" y="357336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нительные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-1, ММИ-1 (с контрол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-2, ММИ-2 (без контр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42920" y="1582560"/>
            <a:ext cx="2238480" cy="1810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755640" y="2508120"/>
            <a:ext cx="2638440" cy="1676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266920" cy="1650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284720" y="497844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вуковой оповещ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рция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079640" y="3465360"/>
            <a:ext cx="2555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0" y="1773360"/>
          <a:ext cx="439272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439272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4500720" y="2276640"/>
            <a:ext cx="421164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ухсторонн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ресно-аналогов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окол Аргус-Диалог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радиочастотных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240 извещателей в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от батаре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т + 2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еспроводное расширение - «Стрелец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797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РП-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43280" y="5084640"/>
            <a:ext cx="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6360" y="5805360"/>
            <a:ext cx="270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584208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 «Радуга-3/24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0" y="1773360"/>
          <a:ext cx="3059280" cy="23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3059280" cy="23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46240" y="4076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РП-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01840" y="4041720"/>
            <a:ext cx="0" cy="51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5800" y="4545000"/>
            <a:ext cx="1946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5840" y="476100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 «Радуга-3/24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ибридная адресно-аналог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"/>
          <p:cNvGraphicFramePr/>
          <p:nvPr/>
        </p:nvGraphicFramePr>
        <p:xfrm>
          <a:off x="3132000" y="1736640"/>
          <a:ext cx="5832720" cy="4376880"/>
        </p:xfrm>
        <a:graphic>
          <a:graphicData uri="http://schemas.openxmlformats.org/drawingml/2006/table">
            <a:tbl>
              <a:tblPr/>
              <a:tblGrid>
                <a:gridCol w="2178360"/>
                <a:gridCol w="1919160"/>
                <a:gridCol w="1735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щ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рора-ДАА / ТАА / ДТА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рора-ДР / ТР / Д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щ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ч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ПР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ПР-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 вх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В-1, ММВ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 исполн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-1, ММИ-1, МИ-2, ММИ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-Р, ИБ-Р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 оповещ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ция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ена-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42920" y="2349360"/>
            <a:ext cx="2951280" cy="2102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32000" y="2421000"/>
            <a:ext cx="60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ройств в СЛ (всего 8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жарных зон (16, 48, 96 светодио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о-принтер (оп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динение в сеть до 64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2843280" y="4460760"/>
            <a:ext cx="5689440" cy="792360"/>
            <a:chOff x="2843280" y="4460760"/>
            <a:chExt cx="5689440" cy="792360"/>
          </a:xfrm>
        </p:grpSpPr>
        <p:sp>
          <p:nvSpPr>
            <p:cNvPr id="286" name=""/>
            <p:cNvSpPr/>
            <p:nvPr/>
          </p:nvSpPr>
          <p:spPr>
            <a:xfrm>
              <a:off x="2843280" y="4460760"/>
              <a:ext cx="5689440" cy="79236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57440" y="464040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184720" y="2516040"/>
            <a:ext cx="3059280" cy="235296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4464000" y="4172040"/>
            <a:ext cx="4500720" cy="1344600"/>
            <a:chOff x="4464000" y="4172040"/>
            <a:chExt cx="4500720" cy="1344600"/>
          </a:xfrm>
        </p:grpSpPr>
        <p:graphicFrame>
          <p:nvGraphicFramePr>
            <p:cNvPr id="292" name=""/>
            <p:cNvGraphicFramePr/>
            <p:nvPr/>
          </p:nvGraphicFramePr>
          <p:xfrm>
            <a:off x="5000760" y="4172040"/>
            <a:ext cx="471240" cy="47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0760" y="4172040"/>
                      <a:ext cx="47124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94" name="" descr=""/>
            <p:cNvPicPr/>
            <p:nvPr/>
          </p:nvPicPr>
          <p:blipFill>
            <a:blip r:embed="rId5"/>
            <a:stretch/>
          </p:blipFill>
          <p:spPr>
            <a:xfrm>
              <a:off x="7380360" y="4172040"/>
              <a:ext cx="62208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6"/>
            <a:stretch/>
          </p:blipFill>
          <p:spPr>
            <a:xfrm>
              <a:off x="8244000" y="4497480"/>
              <a:ext cx="7207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7"/>
            <a:stretch/>
          </p:blipFill>
          <p:spPr>
            <a:xfrm>
              <a:off x="5761080" y="5108400"/>
              <a:ext cx="61272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8"/>
            <a:stretch/>
          </p:blipFill>
          <p:spPr>
            <a:xfrm>
              <a:off x="7093080" y="4964040"/>
              <a:ext cx="68400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9"/>
            <a:stretch/>
          </p:blipFill>
          <p:spPr>
            <a:xfrm>
              <a:off x="4464000" y="4892760"/>
              <a:ext cx="75564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3024360" y="3236760"/>
            <a:ext cx="2122200" cy="368280"/>
            <a:chOff x="3024360" y="3236760"/>
            <a:chExt cx="2122200" cy="368280"/>
          </a:xfrm>
        </p:grpSpPr>
        <p:sp>
          <p:nvSpPr>
            <p:cNvPr id="300" name=""/>
            <p:cNvSpPr/>
            <p:nvPr/>
          </p:nvSpPr>
          <p:spPr>
            <a:xfrm>
              <a:off x="3024360" y="3311280"/>
              <a:ext cx="1368360" cy="216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1640" y="32367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024360" y="3597120"/>
            <a:ext cx="2122200" cy="368280"/>
            <a:chOff x="3024360" y="3597120"/>
            <a:chExt cx="2122200" cy="368280"/>
          </a:xfrm>
        </p:grpSpPr>
        <p:sp>
          <p:nvSpPr>
            <p:cNvPr id="303" name=""/>
            <p:cNvSpPr/>
            <p:nvPr/>
          </p:nvSpPr>
          <p:spPr>
            <a:xfrm>
              <a:off x="3024360" y="3671640"/>
              <a:ext cx="1368360" cy="216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11640" y="359712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024360" y="3956040"/>
            <a:ext cx="2124000" cy="368280"/>
            <a:chOff x="3024360" y="3956040"/>
            <a:chExt cx="2124000" cy="368280"/>
          </a:xfrm>
        </p:grpSpPr>
        <p:sp>
          <p:nvSpPr>
            <p:cNvPr id="306" name=""/>
            <p:cNvSpPr/>
            <p:nvPr/>
          </p:nvSpPr>
          <p:spPr>
            <a:xfrm>
              <a:off x="3024360" y="4030920"/>
              <a:ext cx="1368360" cy="215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13080" y="39560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Л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1042920" y="3086280"/>
            <a:ext cx="2233800" cy="15904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34920" y="1601640"/>
            <a:ext cx="5832360" cy="2006280"/>
            <a:chOff x="34920" y="1601640"/>
            <a:chExt cx="5832360" cy="2006280"/>
          </a:xfrm>
        </p:grpSpPr>
        <p:sp>
          <p:nvSpPr>
            <p:cNvPr id="310" name=""/>
            <p:cNvSpPr/>
            <p:nvPr/>
          </p:nvSpPr>
          <p:spPr>
            <a:xfrm>
              <a:off x="287280" y="180504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х/в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0000" y="180504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68360" y="1805040"/>
              <a:ext cx="16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х оп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03640" y="2394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6360" y="18050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 Ш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920" y="27176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RS-48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4000" y="23940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55640" y="2394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43280" y="2394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91280" y="210672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/>
            <p:nvPr/>
          </p:nvCxnSpPr>
          <p:spPr>
            <a:xfrm flipH="1" rot="10800000">
              <a:off x="1076760" y="1961280"/>
              <a:ext cx="4358520" cy="1647000"/>
            </a:xfrm>
            <a:prstGeom prst="bentConnector4">
              <a:avLst>
                <a:gd name="adj1" fmla="val -5245"/>
                <a:gd name="adj2" fmla="val 76257"/>
              </a:avLst>
            </a:prstGeom>
            <a:ln w="25560">
              <a:solidFill>
                <a:srgbClr val="008000"/>
              </a:solidFill>
              <a:miter/>
            </a:ln>
          </p:spPr>
        </p:cxnSp>
        <p:pic>
          <p:nvPicPr>
            <p:cNvPr id="321" name="" descr=""/>
            <p:cNvPicPr/>
            <p:nvPr/>
          </p:nvPicPr>
          <p:blipFill>
            <a:blip r:embed="rId11"/>
            <a:stretch/>
          </p:blipFill>
          <p:spPr>
            <a:xfrm>
              <a:off x="574560" y="2189160"/>
              <a:ext cx="64944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2"/>
            <a:stretch/>
          </p:blipFill>
          <p:spPr>
            <a:xfrm>
              <a:off x="1692360" y="2185920"/>
              <a:ext cx="72072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3"/>
            <a:stretch/>
          </p:blipFill>
          <p:spPr>
            <a:xfrm>
              <a:off x="2801880" y="2147760"/>
              <a:ext cx="62856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4"/>
            <a:stretch/>
          </p:blipFill>
          <p:spPr>
            <a:xfrm>
              <a:off x="3833640" y="2124000"/>
              <a:ext cx="7923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15"/>
            <a:stretch/>
          </p:blipFill>
          <p:spPr>
            <a:xfrm>
              <a:off x="5041800" y="1601640"/>
              <a:ext cx="71748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52360" y="2205000"/>
            <a:ext cx="7056360" cy="3240000"/>
          </a:xfrm>
          <a:prstGeom prst="roundRect">
            <a:avLst>
              <a:gd name="adj" fmla="val 2003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4920" y="1601640"/>
            <a:ext cx="8929800" cy="3915000"/>
            <a:chOff x="34920" y="1601640"/>
            <a:chExt cx="8929800" cy="3915000"/>
          </a:xfrm>
        </p:grpSpPr>
        <p:grpSp>
          <p:nvGrpSpPr>
            <p:cNvPr id="328" name=""/>
            <p:cNvGrpSpPr/>
            <p:nvPr/>
          </p:nvGrpSpPr>
          <p:grpSpPr>
            <a:xfrm>
              <a:off x="2843280" y="4460760"/>
              <a:ext cx="5689440" cy="792360"/>
              <a:chOff x="2843280" y="4460760"/>
              <a:chExt cx="5689440" cy="792360"/>
            </a:xfrm>
          </p:grpSpPr>
          <p:sp>
            <p:nvSpPr>
              <p:cNvPr id="329" name=""/>
              <p:cNvSpPr/>
              <p:nvPr/>
            </p:nvSpPr>
            <p:spPr>
              <a:xfrm>
                <a:off x="2843280" y="4460760"/>
                <a:ext cx="5689440" cy="79236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57440" y="464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5184720" y="2516040"/>
              <a:ext cx="3059280" cy="235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2" name=""/>
            <p:cNvGrpSpPr/>
            <p:nvPr/>
          </p:nvGrpSpPr>
          <p:grpSpPr>
            <a:xfrm>
              <a:off x="4464000" y="4172040"/>
              <a:ext cx="4500720" cy="1344600"/>
              <a:chOff x="4464000" y="4172040"/>
              <a:chExt cx="4500720" cy="1344600"/>
            </a:xfrm>
          </p:grpSpPr>
          <p:graphicFrame>
            <p:nvGraphicFramePr>
              <p:cNvPr id="333" name=""/>
              <p:cNvGraphicFramePr/>
              <p:nvPr/>
            </p:nvGraphicFramePr>
            <p:xfrm>
              <a:off x="5000760" y="4172040"/>
              <a:ext cx="471240" cy="4730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34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000760" y="4172040"/>
                        <a:ext cx="471240" cy="473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3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80360" y="4172040"/>
                <a:ext cx="622080" cy="63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244000" y="4497480"/>
                <a:ext cx="72072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61080" y="5108400"/>
                <a:ext cx="612720" cy="3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93080" y="4964040"/>
                <a:ext cx="68400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64000" y="4892760"/>
                <a:ext cx="755640" cy="5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0" name=""/>
            <p:cNvGrpSpPr/>
            <p:nvPr/>
          </p:nvGrpSpPr>
          <p:grpSpPr>
            <a:xfrm>
              <a:off x="3024360" y="3236760"/>
              <a:ext cx="2122200" cy="368280"/>
              <a:chOff x="3024360" y="3236760"/>
              <a:chExt cx="2122200" cy="368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024360" y="3311280"/>
                <a:ext cx="1368360" cy="21600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11640" y="3236760"/>
                <a:ext cx="93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024360" y="3597120"/>
              <a:ext cx="2122200" cy="368280"/>
              <a:chOff x="3024360" y="3597120"/>
              <a:chExt cx="2122200" cy="368280"/>
            </a:xfrm>
          </p:grpSpPr>
          <p:sp>
            <p:nvSpPr>
              <p:cNvPr id="344" name=""/>
              <p:cNvSpPr/>
              <p:nvPr/>
            </p:nvSpPr>
            <p:spPr>
              <a:xfrm>
                <a:off x="3024360" y="3671640"/>
                <a:ext cx="1368360" cy="21600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11640" y="3597120"/>
                <a:ext cx="93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024360" y="3956040"/>
              <a:ext cx="2124000" cy="368280"/>
              <a:chOff x="3024360" y="3956040"/>
              <a:chExt cx="2124000" cy="368280"/>
            </a:xfrm>
          </p:grpSpPr>
          <p:sp>
            <p:nvSpPr>
              <p:cNvPr id="347" name=""/>
              <p:cNvSpPr/>
              <p:nvPr/>
            </p:nvSpPr>
            <p:spPr>
              <a:xfrm>
                <a:off x="3024360" y="4030920"/>
                <a:ext cx="1368360" cy="215640"/>
              </a:xfrm>
              <a:prstGeom prst="roundRect">
                <a:avLst>
                  <a:gd name="adj" fmla="val 36074"/>
                </a:avLst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213080" y="395604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00"/>
                    </a:solidFill>
                    <a:latin typeface="Arial"/>
                  </a:rPr>
                  <a:t>СЛ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1042920" y="3086280"/>
              <a:ext cx="2233800" cy="159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0" name=""/>
            <p:cNvGrpSpPr/>
            <p:nvPr/>
          </p:nvGrpSpPr>
          <p:grpSpPr>
            <a:xfrm>
              <a:off x="34920" y="1601640"/>
              <a:ext cx="5832360" cy="2006280"/>
              <a:chOff x="34920" y="1601640"/>
              <a:chExt cx="5832360" cy="20062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280" y="1805040"/>
                <a:ext cx="122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6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х/вы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40000" y="1805040"/>
                <a:ext cx="122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ы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268360" y="1805040"/>
                <a:ext cx="16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ых опо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03640" y="2394000"/>
                <a:ext cx="57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3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16360" y="1805040"/>
                <a:ext cx="82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 Ш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920" y="271764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RS-4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4000" y="2394000"/>
                <a:ext cx="57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655640" y="2394000"/>
                <a:ext cx="57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43280" y="2394000"/>
                <a:ext cx="57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91280" y="2106720"/>
                <a:ext cx="57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3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1" name=""/>
              <p:cNvCxnSpPr/>
              <p:nvPr/>
            </p:nvCxnSpPr>
            <p:spPr>
              <a:xfrm flipH="1" rot="10800000">
                <a:off x="1076760" y="1961280"/>
                <a:ext cx="4358520" cy="1647000"/>
              </a:xfrm>
              <a:prstGeom prst="bentConnector4">
                <a:avLst>
                  <a:gd name="adj1" fmla="val -5245"/>
                  <a:gd name="adj2" fmla="val 76257"/>
                </a:avLst>
              </a:prstGeom>
              <a:ln w="25560">
                <a:solidFill>
                  <a:srgbClr val="008000"/>
                </a:solidFill>
                <a:miter/>
              </a:ln>
            </p:spPr>
          </p:cxnSp>
          <p:pic>
            <p:nvPicPr>
              <p:cNvPr id="36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4560" y="2189160"/>
                <a:ext cx="649440" cy="30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92360" y="2185920"/>
                <a:ext cx="720720" cy="30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801880" y="2147760"/>
                <a:ext cx="628560" cy="38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833640" y="2124000"/>
                <a:ext cx="79236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041800" y="1601640"/>
                <a:ext cx="717480" cy="60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67" name="" descr=""/>
          <p:cNvPicPr/>
          <p:nvPr/>
        </p:nvPicPr>
        <p:blipFill>
          <a:blip r:embed="rId15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6"/>
          <a:stretch/>
        </p:blipFill>
        <p:spPr>
          <a:xfrm>
            <a:off x="468360" y="5013360"/>
            <a:ext cx="792000" cy="563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7"/>
          <a:stretch/>
        </p:blipFill>
        <p:spPr>
          <a:xfrm>
            <a:off x="5400720" y="5121360"/>
            <a:ext cx="792000" cy="5634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8"/>
          <a:stretch/>
        </p:blipFill>
        <p:spPr>
          <a:xfrm>
            <a:off x="2735280" y="5084640"/>
            <a:ext cx="717480" cy="6066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835280" y="3392640"/>
            <a:ext cx="305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ть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S-4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4 узла в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35640" y="4653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245736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43280" y="2421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67640" y="3105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16000" y="1622520"/>
            <a:ext cx="2098080" cy="979560"/>
            <a:chOff x="216000" y="1622520"/>
            <a:chExt cx="2098080" cy="979560"/>
          </a:xfrm>
        </p:grpSpPr>
        <p:pic>
          <p:nvPicPr>
            <p:cNvPr id="378" name="" descr=""/>
            <p:cNvPicPr/>
            <p:nvPr/>
          </p:nvPicPr>
          <p:blipFill>
            <a:blip r:embed="rId19"/>
            <a:stretch/>
          </p:blipFill>
          <p:spPr>
            <a:xfrm>
              <a:off x="270360" y="2465640"/>
              <a:ext cx="19368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83360" y="2337840"/>
              <a:ext cx="1423080" cy="198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20"/>
            <a:stretch/>
          </p:blipFill>
          <p:spPr>
            <a:xfrm>
              <a:off x="1369080" y="1851120"/>
              <a:ext cx="765000" cy="588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81" name=""/>
            <p:cNvGraphicFramePr/>
            <p:nvPr/>
          </p:nvGraphicFramePr>
          <p:xfrm>
            <a:off x="1323000" y="2265480"/>
            <a:ext cx="117720" cy="1180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323000" y="2265480"/>
                      <a:ext cx="117720" cy="11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83" name="" descr=""/>
            <p:cNvPicPr/>
            <p:nvPr/>
          </p:nvPicPr>
          <p:blipFill>
            <a:blip r:embed="rId23"/>
            <a:stretch/>
          </p:blipFill>
          <p:spPr>
            <a:xfrm>
              <a:off x="1918080" y="2265480"/>
              <a:ext cx="1555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4"/>
            <a:stretch/>
          </p:blipFill>
          <p:spPr>
            <a:xfrm>
              <a:off x="2134080" y="2347200"/>
              <a:ext cx="1800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5"/>
            <a:stretch/>
          </p:blipFill>
          <p:spPr>
            <a:xfrm>
              <a:off x="1513080" y="2499840"/>
              <a:ext cx="1530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6"/>
            <a:stretch/>
          </p:blipFill>
          <p:spPr>
            <a:xfrm>
              <a:off x="1846440" y="2463840"/>
              <a:ext cx="17100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7"/>
            <a:stretch/>
          </p:blipFill>
          <p:spPr>
            <a:xfrm>
              <a:off x="1188720" y="2446200"/>
              <a:ext cx="189000" cy="1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828720" y="205020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8720" y="214056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28720" y="2230200"/>
              <a:ext cx="342000" cy="54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28"/>
            <a:stretch/>
          </p:blipFill>
          <p:spPr>
            <a:xfrm>
              <a:off x="333000" y="1993680"/>
              <a:ext cx="558720" cy="397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92" name=""/>
            <p:cNvCxnSpPr/>
            <p:nvPr/>
          </p:nvCxnSpPr>
          <p:spPr>
            <a:xfrm flipH="1" rot="10800000">
              <a:off x="340560" y="1711800"/>
              <a:ext cx="1090440" cy="412560"/>
            </a:xfrm>
            <a:prstGeom prst="bentConnector4">
              <a:avLst>
                <a:gd name="adj1" fmla="val -5217"/>
                <a:gd name="adj2" fmla="val 76244"/>
              </a:avLst>
            </a:prstGeom>
            <a:ln w="25560">
              <a:solidFill>
                <a:srgbClr val="008000"/>
              </a:solidFill>
              <a:miter/>
            </a:ln>
          </p:spPr>
        </p:cxnSp>
        <p:pic>
          <p:nvPicPr>
            <p:cNvPr id="393" name="" descr=""/>
            <p:cNvPicPr/>
            <p:nvPr/>
          </p:nvPicPr>
          <p:blipFill>
            <a:blip r:embed="rId29"/>
            <a:stretch/>
          </p:blipFill>
          <p:spPr>
            <a:xfrm>
              <a:off x="216000" y="1769400"/>
              <a:ext cx="162360" cy="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30"/>
            <a:stretch/>
          </p:blipFill>
          <p:spPr>
            <a:xfrm>
              <a:off x="495360" y="1768680"/>
              <a:ext cx="1800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31"/>
            <a:stretch/>
          </p:blipFill>
          <p:spPr>
            <a:xfrm>
              <a:off x="772920" y="1758960"/>
              <a:ext cx="157320" cy="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32"/>
            <a:stretch/>
          </p:blipFill>
          <p:spPr>
            <a:xfrm>
              <a:off x="1031040" y="1753200"/>
              <a:ext cx="198000" cy="1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33"/>
            <a:stretch/>
          </p:blipFill>
          <p:spPr>
            <a:xfrm>
              <a:off x="1333440" y="1622520"/>
              <a:ext cx="179280" cy="15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2843280" y="1622520"/>
            <a:ext cx="2098080" cy="979560"/>
            <a:chOff x="2843280" y="1622520"/>
            <a:chExt cx="2098080" cy="979560"/>
          </a:xfrm>
        </p:grpSpPr>
        <p:pic>
          <p:nvPicPr>
            <p:cNvPr id="399" name="" descr=""/>
            <p:cNvPicPr/>
            <p:nvPr/>
          </p:nvPicPr>
          <p:blipFill>
            <a:blip r:embed="rId34"/>
            <a:stretch/>
          </p:blipFill>
          <p:spPr>
            <a:xfrm>
              <a:off x="2897640" y="2465640"/>
              <a:ext cx="19368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410640" y="2337840"/>
              <a:ext cx="1423080" cy="198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35"/>
            <a:stretch/>
          </p:blipFill>
          <p:spPr>
            <a:xfrm>
              <a:off x="3996360" y="1851120"/>
              <a:ext cx="765000" cy="588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02" name=""/>
            <p:cNvGraphicFramePr/>
            <p:nvPr/>
          </p:nvGraphicFramePr>
          <p:xfrm>
            <a:off x="3950280" y="2265480"/>
            <a:ext cx="117720" cy="118080"/>
          </p:xfrm>
          <a:graphic>
            <a:graphicData uri="http://schemas.openxmlformats.org/presentationml/2006/ole">
              <p:oleObj r:id="rId36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3950280" y="2265480"/>
                      <a:ext cx="117720" cy="11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04" name="" descr=""/>
            <p:cNvPicPr/>
            <p:nvPr/>
          </p:nvPicPr>
          <p:blipFill>
            <a:blip r:embed="rId38"/>
            <a:stretch/>
          </p:blipFill>
          <p:spPr>
            <a:xfrm>
              <a:off x="4545360" y="2265480"/>
              <a:ext cx="1555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9"/>
            <a:stretch/>
          </p:blipFill>
          <p:spPr>
            <a:xfrm>
              <a:off x="4761360" y="2347200"/>
              <a:ext cx="18000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40"/>
            <a:stretch/>
          </p:blipFill>
          <p:spPr>
            <a:xfrm>
              <a:off x="4140360" y="2499840"/>
              <a:ext cx="1530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41"/>
            <a:stretch/>
          </p:blipFill>
          <p:spPr>
            <a:xfrm>
              <a:off x="4473720" y="2463840"/>
              <a:ext cx="17100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42"/>
            <a:stretch/>
          </p:blipFill>
          <p:spPr>
            <a:xfrm>
              <a:off x="3816000" y="2446200"/>
              <a:ext cx="189000" cy="1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456000" y="205020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56000" y="2140560"/>
              <a:ext cx="342000" cy="5364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56000" y="2230200"/>
              <a:ext cx="342000" cy="54000"/>
            </a:xfrm>
            <a:prstGeom prst="roundRect">
              <a:avLst>
                <a:gd name="adj" fmla="val 36074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43"/>
            <a:stretch/>
          </p:blipFill>
          <p:spPr>
            <a:xfrm>
              <a:off x="2960280" y="1993680"/>
              <a:ext cx="558720" cy="397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13" name=""/>
            <p:cNvCxnSpPr/>
            <p:nvPr/>
          </p:nvCxnSpPr>
          <p:spPr>
            <a:xfrm flipH="1" rot="10800000">
              <a:off x="2967840" y="1711800"/>
              <a:ext cx="1090440" cy="412560"/>
            </a:xfrm>
            <a:prstGeom prst="bentConnector4">
              <a:avLst>
                <a:gd name="adj1" fmla="val -5217"/>
                <a:gd name="adj2" fmla="val 76244"/>
              </a:avLst>
            </a:prstGeom>
            <a:ln w="25560">
              <a:solidFill>
                <a:srgbClr val="008000"/>
              </a:solidFill>
              <a:miter/>
            </a:ln>
          </p:spPr>
        </p:cxnSp>
        <p:pic>
          <p:nvPicPr>
            <p:cNvPr id="414" name="" descr=""/>
            <p:cNvPicPr/>
            <p:nvPr/>
          </p:nvPicPr>
          <p:blipFill>
            <a:blip r:embed="rId44"/>
            <a:stretch/>
          </p:blipFill>
          <p:spPr>
            <a:xfrm>
              <a:off x="2843280" y="1769400"/>
              <a:ext cx="162360" cy="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45"/>
            <a:stretch/>
          </p:blipFill>
          <p:spPr>
            <a:xfrm>
              <a:off x="3122640" y="1768680"/>
              <a:ext cx="1800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46"/>
            <a:stretch/>
          </p:blipFill>
          <p:spPr>
            <a:xfrm>
              <a:off x="3400200" y="1758960"/>
              <a:ext cx="157320" cy="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47"/>
            <a:stretch/>
          </p:blipFill>
          <p:spPr>
            <a:xfrm>
              <a:off x="3658320" y="1753200"/>
              <a:ext cx="198000" cy="1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48"/>
            <a:stretch/>
          </p:blipFill>
          <p:spPr>
            <a:xfrm>
              <a:off x="3960720" y="1622520"/>
              <a:ext cx="179280" cy="15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2808360" y="4653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6360" y="4653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1280" y="3463920"/>
            <a:ext cx="7417080" cy="649080"/>
            <a:chOff x="71280" y="3463920"/>
            <a:chExt cx="7417080" cy="649080"/>
          </a:xfrm>
        </p:grpSpPr>
        <p:grpSp>
          <p:nvGrpSpPr>
            <p:cNvPr id="422" name=""/>
            <p:cNvGrpSpPr/>
            <p:nvPr/>
          </p:nvGrpSpPr>
          <p:grpSpPr>
            <a:xfrm>
              <a:off x="71280" y="3465360"/>
              <a:ext cx="360360" cy="647640"/>
              <a:chOff x="71280" y="3465360"/>
              <a:chExt cx="360360" cy="647640"/>
            </a:xfrm>
          </p:grpSpPr>
          <p:sp>
            <p:nvSpPr>
              <p:cNvPr id="423" name=""/>
              <p:cNvSpPr/>
              <p:nvPr/>
            </p:nvSpPr>
            <p:spPr>
              <a:xfrm>
                <a:off x="73080" y="3465360"/>
                <a:ext cx="35856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280" y="371952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280" y="397008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128000" y="3463920"/>
              <a:ext cx="360360" cy="647640"/>
              <a:chOff x="7128000" y="3463920"/>
              <a:chExt cx="360360" cy="647640"/>
            </a:xfrm>
          </p:grpSpPr>
          <p:sp>
            <p:nvSpPr>
              <p:cNvPr id="427" name=""/>
              <p:cNvSpPr/>
              <p:nvPr/>
            </p:nvSpPr>
            <p:spPr>
              <a:xfrm>
                <a:off x="7129800" y="3463920"/>
                <a:ext cx="35856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28000" y="371808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128000" y="3968640"/>
                <a:ext cx="35892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3876E-006 L 0.37032 -0.11864 E">
                                      <p:cBhvr>
                                        <p:cTn id="339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7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4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1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7054920" y="83664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винки пожарных систем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ргус-Спек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851280" y="2276640"/>
            <a:ext cx="529272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ные пожарные извещ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фей (БР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боры управления серии «Стар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719280" y="1628640"/>
            <a:ext cx="1150920" cy="108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863640" y="2457360"/>
          <a:ext cx="1501560" cy="15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2457360"/>
                    <a:ext cx="150156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1619280" y="3573360"/>
          <a:ext cx="1154160" cy="16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3573360"/>
                    <a:ext cx="11541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2016000" y="4400640"/>
            <a:ext cx="8478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вые адресные 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500720" y="2276640"/>
            <a:ext cx="464328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рора-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П 212-7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рора-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П 101-79-А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рора-Д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П 212/101-79-А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76360" y="1736640"/>
            <a:ext cx="3203640" cy="3030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3203640" y="4329000"/>
            <a:ext cx="1504800" cy="1847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932360" y="46594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вместимость с ППК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дуга-2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дуга-4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2920" y="144936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ПКП «Радуга-24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03640" y="242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но-аналоговая система пожарной сигн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03640" y="3645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оканальное расширение «Стрелец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6000" y="2097000"/>
            <a:ext cx="3779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стема речевого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овещения «Орф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56000" y="2637000"/>
            <a:ext cx="392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новл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лок Рече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ове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БР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576360" y="1881360"/>
          <a:ext cx="2870280" cy="29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881360"/>
                    <a:ext cx="2870280" cy="29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2087640" y="414972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054920" y="29700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стема речевого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овещения «Орф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18200" y="2421000"/>
            <a:ext cx="3925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 выходов / 16 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ьное оповещение для шк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4+1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ения (32 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ейный вход ГО и 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неиспра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42920" y="2135160"/>
            <a:ext cx="4680000" cy="3454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851280" y="5769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ные приборы управления серии «Ста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5148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тарт-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тарт-4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новленная схема контроля и управления пусковыми  вы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 расширения для подключения ПУ «Старт-8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395280" y="1773360"/>
          <a:ext cx="2540160" cy="37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73360"/>
                    <a:ext cx="254016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1727280" y="3471840"/>
            <a:ext cx="18637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ные приборы управления серии «Ста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995640" y="2421000"/>
            <a:ext cx="5148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тарт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ь выходов оповещения импульсами обратной поля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 расширения для подключения следующего          ПУ «Старт-8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863640" y="1989000"/>
          <a:ext cx="2413080" cy="344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3640" y="1989000"/>
                    <a:ext cx="2413080" cy="34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пасибо за внимание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7840" y="260280"/>
            <a:ext cx="8605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многоэтажного з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8400" y="1413000"/>
            <a:ext cx="6667200" cy="47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0800" y="7920"/>
            <a:ext cx="7850160" cy="6669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43280" y="6237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71640" y="1665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515360" y="3968640"/>
            <a:ext cx="728640" cy="731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7524720" y="303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6840360" y="155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5580000" y="476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3851280" y="29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3024360" y="512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4751280" y="22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6300720" y="87300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7308720" y="22417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1150920" y="382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2303640" y="90792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4133880" y="3292560"/>
            <a:ext cx="1009800" cy="1261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7"/>
          <a:stretch/>
        </p:blipFill>
        <p:spPr>
          <a:xfrm>
            <a:off x="826920" y="7920"/>
            <a:ext cx="7850520" cy="666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1878120" y="1665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7521480" y="3968640"/>
            <a:ext cx="728640" cy="731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0"/>
          <a:stretch/>
        </p:blipFill>
        <p:spPr>
          <a:xfrm>
            <a:off x="7531200" y="303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6846840" y="155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5586480" y="476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3"/>
          <a:stretch/>
        </p:blipFill>
        <p:spPr>
          <a:xfrm>
            <a:off x="3857760" y="29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030480" y="512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757760" y="22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6"/>
          <a:stretch/>
        </p:blipFill>
        <p:spPr>
          <a:xfrm>
            <a:off x="6307200" y="873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7"/>
          <a:stretch/>
        </p:blipFill>
        <p:spPr>
          <a:xfrm>
            <a:off x="7315200" y="2241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8"/>
          <a:stretch/>
        </p:blipFill>
        <p:spPr>
          <a:xfrm>
            <a:off x="1157400" y="382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9"/>
          <a:stretch/>
        </p:blipFill>
        <p:spPr>
          <a:xfrm>
            <a:off x="2309760" y="90792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0"/>
          <a:stretch/>
        </p:blipFill>
        <p:spPr>
          <a:xfrm>
            <a:off x="4140360" y="3292560"/>
            <a:ext cx="100944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80204E-006 L -0.27952 0.28353 E">
                                      <p:cBhvr>
                                        <p:cTn id="4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93987E-006 L -0.16927 0.3462 E">
                                      <p:cBhvr>
                                        <p:cTn id="4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6559E-006 L -0.03142 0.42484 E">
                                      <p:cBhvr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087E-006 L 0.04722 0.40911 E">
                                      <p:cBhvr>
                                        <p:cTn id="5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2757E-006 L 0.12222 0.34112 E"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6809E-006 L 0.11823 0.50346 E">
                                      <p:cBhvr>
                                        <p:cTn id="5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6244E-006 L 0.3033 0.24653 E">
                                      <p:cBhvr>
                                        <p:cTn id="5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2137E-006 L 0.3033 0.34112 E">
                                      <p:cBhvr>
                                        <p:cTn id="5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8612E-006 L 0.33472 0.03145 E">
                                      <p:cBhvr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90287E-007 L 0.38212 0.14177 E">
                                      <p:cBhvr>
                                        <p:cTn id="6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011E-007 L -0.36163 -0.25254 E">
                                      <p:cBhvr>
                                        <p:cTn id="64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21554E-007 L 0.42135 -0.09968 E">
                                      <p:cBhvr>
                                        <p:cTn id="6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60962E-006 L 0.08334 0.03307 E">
                                      <p:cBhvr>
                                        <p:cTn id="6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80204E-006 L -0.53941 -0.04163 E">
                                      <p:cBhvr>
                                        <p:cTn id="10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93987E-006 L -0.61822 0.07354 E">
                                      <p:cBhvr>
                                        <p:cTn id="10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6559E-006 L -0.37014 0.04718 E">
                                      <p:cBhvr>
                                        <p:cTn id="10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087E-006 L -0.40555 0.14686 E">
                                      <p:cBhvr>
                                        <p:cTn id="11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2757E-006 L -0.42916 0.22571 E">
                                      <p:cBhvr>
                                        <p:cTn id="11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6809E-006 L -0.25191 0.48774 E">
                                      <p:cBhvr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6244E-006 L -0.2401 0.49306 E">
                                      <p:cBhvr>
                                        <p:cTn id="11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2137E-006 L 0.05521 0.62951 E">
                                      <p:cBhvr>
                                        <p:cTn id="11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8612E-006 L -0.01563 0.41443 E">
                                      <p:cBhvr>
                                        <p:cTn id="12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90287E-007 L 0.0316 0.54047 E">
                                      <p:cBhvr>
                                        <p:cTn id="1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011E-007 L -0.36163 0.13043 E">
                                      <p:cBhvr>
                                        <p:cTn id="12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21554E-007 L 0.24028 -0.08904 E">
                                      <p:cBhvr>
                                        <p:cTn id="12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60962E-006 L -0.11354 0.02775 E">
                                      <p:cBhvr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468360" y="1878120"/>
            <a:ext cx="8388360" cy="576000"/>
            <a:chOff x="468360" y="1878120"/>
            <a:chExt cx="8388360" cy="576000"/>
          </a:xfrm>
        </p:grpSpPr>
        <p:sp>
          <p:nvSpPr>
            <p:cNvPr id="90" name=""/>
            <p:cNvSpPr/>
            <p:nvPr/>
          </p:nvSpPr>
          <p:spPr>
            <a:xfrm>
              <a:off x="468360" y="1878120"/>
              <a:ext cx="6734160" cy="5760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720" y="198900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66560" y="3895560"/>
            <a:ext cx="8390160" cy="576360"/>
            <a:chOff x="466560" y="3895560"/>
            <a:chExt cx="8390160" cy="576360"/>
          </a:xfrm>
        </p:grpSpPr>
        <p:sp>
          <p:nvSpPr>
            <p:cNvPr id="93" name=""/>
            <p:cNvSpPr/>
            <p:nvPr/>
          </p:nvSpPr>
          <p:spPr>
            <a:xfrm>
              <a:off x="466560" y="3895560"/>
              <a:ext cx="6734520" cy="5763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24720" y="400536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6560" y="2455920"/>
            <a:ext cx="8390160" cy="576360"/>
            <a:chOff x="466560" y="2455920"/>
            <a:chExt cx="8390160" cy="576360"/>
          </a:xfrm>
        </p:grpSpPr>
        <p:sp>
          <p:nvSpPr>
            <p:cNvPr id="96" name=""/>
            <p:cNvSpPr/>
            <p:nvPr/>
          </p:nvSpPr>
          <p:spPr>
            <a:xfrm>
              <a:off x="466560" y="2455920"/>
              <a:ext cx="6734520" cy="5763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24720" y="256536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6560" y="4471920"/>
            <a:ext cx="8390160" cy="576360"/>
            <a:chOff x="466560" y="4471920"/>
            <a:chExt cx="8390160" cy="576360"/>
          </a:xfrm>
        </p:grpSpPr>
        <p:sp>
          <p:nvSpPr>
            <p:cNvPr id="99" name=""/>
            <p:cNvSpPr/>
            <p:nvPr/>
          </p:nvSpPr>
          <p:spPr>
            <a:xfrm>
              <a:off x="466560" y="4471920"/>
              <a:ext cx="6734520" cy="5763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24720" y="4581360"/>
              <a:ext cx="13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Этаж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7840" y="260280"/>
            <a:ext cx="8605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многоэтажного з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6159600"/>
            <a:ext cx="7743600" cy="4381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68360" y="4491000"/>
            <a:ext cx="2158920" cy="539640"/>
            <a:chOff x="468360" y="4491000"/>
            <a:chExt cx="2158920" cy="53964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6836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100800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1547640" y="4491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08764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5038560" y="4491000"/>
            <a:ext cx="2160720" cy="539640"/>
            <a:chOff x="5038560" y="4491000"/>
            <a:chExt cx="2160720" cy="539640"/>
          </a:xfrm>
        </p:grpSpPr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5038560" y="4491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557856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611820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6659640" y="4491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3348000" y="4502160"/>
            <a:ext cx="514440" cy="5158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68360" y="3914640"/>
            <a:ext cx="2158920" cy="540000"/>
            <a:chOff x="468360" y="3914640"/>
            <a:chExt cx="2158920" cy="540000"/>
          </a:xfrm>
        </p:grpSpPr>
        <p:pic>
          <p:nvPicPr>
            <p:cNvPr id="115" name="" descr=""/>
            <p:cNvPicPr/>
            <p:nvPr/>
          </p:nvPicPr>
          <p:blipFill>
            <a:blip r:embed="rId11"/>
            <a:stretch/>
          </p:blipFill>
          <p:spPr>
            <a:xfrm>
              <a:off x="46836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2"/>
            <a:stretch/>
          </p:blipFill>
          <p:spPr>
            <a:xfrm>
              <a:off x="100800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13"/>
            <a:stretch/>
          </p:blipFill>
          <p:spPr>
            <a:xfrm>
              <a:off x="1547640" y="391464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4"/>
            <a:stretch/>
          </p:blipFill>
          <p:spPr>
            <a:xfrm>
              <a:off x="208764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5038560" y="3914640"/>
            <a:ext cx="2160720" cy="540000"/>
            <a:chOff x="5038560" y="3914640"/>
            <a:chExt cx="2160720" cy="540000"/>
          </a:xfrm>
        </p:grpSpPr>
        <p:pic>
          <p:nvPicPr>
            <p:cNvPr id="120" name="" descr=""/>
            <p:cNvPicPr/>
            <p:nvPr/>
          </p:nvPicPr>
          <p:blipFill>
            <a:blip r:embed="rId15"/>
            <a:stretch/>
          </p:blipFill>
          <p:spPr>
            <a:xfrm>
              <a:off x="5038560" y="391464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6"/>
            <a:stretch/>
          </p:blipFill>
          <p:spPr>
            <a:xfrm>
              <a:off x="557856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7"/>
            <a:stretch/>
          </p:blipFill>
          <p:spPr>
            <a:xfrm>
              <a:off x="611820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18"/>
            <a:stretch/>
          </p:blipFill>
          <p:spPr>
            <a:xfrm>
              <a:off x="6659640" y="3914640"/>
              <a:ext cx="539640" cy="5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" descr=""/>
          <p:cNvPicPr/>
          <p:nvPr/>
        </p:nvPicPr>
        <p:blipFill>
          <a:blip r:embed="rId19"/>
          <a:stretch/>
        </p:blipFill>
        <p:spPr>
          <a:xfrm>
            <a:off x="3348000" y="3925800"/>
            <a:ext cx="514440" cy="5158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468360" y="1897200"/>
            <a:ext cx="2158920" cy="539640"/>
            <a:chOff x="468360" y="1897200"/>
            <a:chExt cx="2158920" cy="539640"/>
          </a:xfrm>
        </p:grpSpPr>
        <p:pic>
          <p:nvPicPr>
            <p:cNvPr id="126" name="" descr=""/>
            <p:cNvPicPr/>
            <p:nvPr/>
          </p:nvPicPr>
          <p:blipFill>
            <a:blip r:embed="rId20"/>
            <a:stretch/>
          </p:blipFill>
          <p:spPr>
            <a:xfrm>
              <a:off x="46836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1"/>
            <a:stretch/>
          </p:blipFill>
          <p:spPr>
            <a:xfrm>
              <a:off x="100800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2"/>
            <a:stretch/>
          </p:blipFill>
          <p:spPr>
            <a:xfrm>
              <a:off x="1547640" y="18972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3"/>
            <a:stretch/>
          </p:blipFill>
          <p:spPr>
            <a:xfrm>
              <a:off x="208764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5040360" y="1897200"/>
            <a:ext cx="2160720" cy="539640"/>
            <a:chOff x="5040360" y="1897200"/>
            <a:chExt cx="2160720" cy="539640"/>
          </a:xfrm>
        </p:grpSpPr>
        <p:pic>
          <p:nvPicPr>
            <p:cNvPr id="131" name="" descr=""/>
            <p:cNvPicPr/>
            <p:nvPr/>
          </p:nvPicPr>
          <p:blipFill>
            <a:blip r:embed="rId24"/>
            <a:stretch/>
          </p:blipFill>
          <p:spPr>
            <a:xfrm>
              <a:off x="504036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5"/>
            <a:stretch/>
          </p:blipFill>
          <p:spPr>
            <a:xfrm>
              <a:off x="5580000" y="18972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6"/>
            <a:stretch/>
          </p:blipFill>
          <p:spPr>
            <a:xfrm>
              <a:off x="6119640" y="18972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7"/>
            <a:stretch/>
          </p:blipFill>
          <p:spPr>
            <a:xfrm>
              <a:off x="6661080" y="1897200"/>
              <a:ext cx="540000" cy="5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" descr=""/>
          <p:cNvPicPr/>
          <p:nvPr/>
        </p:nvPicPr>
        <p:blipFill>
          <a:blip r:embed="rId28"/>
          <a:stretch/>
        </p:blipFill>
        <p:spPr>
          <a:xfrm>
            <a:off x="3349800" y="1908000"/>
            <a:ext cx="514080" cy="51624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468360" y="2475000"/>
            <a:ext cx="2158920" cy="539640"/>
            <a:chOff x="468360" y="2475000"/>
            <a:chExt cx="2158920" cy="539640"/>
          </a:xfrm>
        </p:grpSpPr>
        <p:pic>
          <p:nvPicPr>
            <p:cNvPr id="137" name="" descr=""/>
            <p:cNvPicPr/>
            <p:nvPr/>
          </p:nvPicPr>
          <p:blipFill>
            <a:blip r:embed="rId29"/>
            <a:stretch/>
          </p:blipFill>
          <p:spPr>
            <a:xfrm>
              <a:off x="46836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0"/>
            <a:stretch/>
          </p:blipFill>
          <p:spPr>
            <a:xfrm>
              <a:off x="100800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1"/>
            <a:stretch/>
          </p:blipFill>
          <p:spPr>
            <a:xfrm>
              <a:off x="1547640" y="2475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2"/>
            <a:stretch/>
          </p:blipFill>
          <p:spPr>
            <a:xfrm>
              <a:off x="208764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5038560" y="2475000"/>
            <a:ext cx="2160720" cy="539640"/>
            <a:chOff x="5038560" y="2475000"/>
            <a:chExt cx="2160720" cy="539640"/>
          </a:xfrm>
        </p:grpSpPr>
        <p:pic>
          <p:nvPicPr>
            <p:cNvPr id="142" name="" descr=""/>
            <p:cNvPicPr/>
            <p:nvPr/>
          </p:nvPicPr>
          <p:blipFill>
            <a:blip r:embed="rId33"/>
            <a:stretch/>
          </p:blipFill>
          <p:spPr>
            <a:xfrm>
              <a:off x="5038560" y="2475000"/>
              <a:ext cx="540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4"/>
            <a:stretch/>
          </p:blipFill>
          <p:spPr>
            <a:xfrm>
              <a:off x="557856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5"/>
            <a:stretch/>
          </p:blipFill>
          <p:spPr>
            <a:xfrm>
              <a:off x="611820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6"/>
            <a:stretch/>
          </p:blipFill>
          <p:spPr>
            <a:xfrm>
              <a:off x="6659640" y="247500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37"/>
          <a:stretch/>
        </p:blipFill>
        <p:spPr>
          <a:xfrm>
            <a:off x="3348000" y="2486160"/>
            <a:ext cx="514440" cy="515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5400000">
            <a:off x="3474000" y="32295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8"/>
          <a:stretch/>
        </p:blipFill>
        <p:spPr>
          <a:xfrm>
            <a:off x="3905280" y="191628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9"/>
          <a:stretch/>
        </p:blipFill>
        <p:spPr>
          <a:xfrm>
            <a:off x="3905280" y="24922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0"/>
          <a:stretch/>
        </p:blipFill>
        <p:spPr>
          <a:xfrm>
            <a:off x="3906720" y="393372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1"/>
          <a:stretch/>
        </p:blipFill>
        <p:spPr>
          <a:xfrm>
            <a:off x="3906720" y="4508640"/>
            <a:ext cx="540000" cy="5396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2376360" y="1773360"/>
            <a:ext cx="1008360" cy="4070160"/>
            <a:chOff x="2376360" y="1773360"/>
            <a:chExt cx="1008360" cy="4070160"/>
          </a:xfrm>
        </p:grpSpPr>
        <p:sp>
          <p:nvSpPr>
            <p:cNvPr id="153" name=""/>
            <p:cNvSpPr/>
            <p:nvPr/>
          </p:nvSpPr>
          <p:spPr>
            <a:xfrm>
              <a:off x="2448000" y="5805360"/>
              <a:ext cx="755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376360" y="1773360"/>
              <a:ext cx="1008360" cy="4070160"/>
              <a:chOff x="2376360" y="1773360"/>
              <a:chExt cx="1008360" cy="40701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2376360" y="1773360"/>
                <a:ext cx="1008360" cy="4070160"/>
                <a:chOff x="2376360" y="1773360"/>
                <a:chExt cx="1008360" cy="40701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376360" y="5516640"/>
                  <a:ext cx="611280" cy="0"/>
                </a:xfrm>
                <a:prstGeom prst="line">
                  <a:avLst/>
                </a:prstGeom>
                <a:ln w="31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987640" y="1773360"/>
                  <a:ext cx="0" cy="3743280"/>
                </a:xfrm>
                <a:prstGeom prst="line">
                  <a:avLst/>
                </a:prstGeom>
                <a:ln w="31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484360" y="5475240"/>
                  <a:ext cx="90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ff3300"/>
                      </a:solidFill>
                      <a:latin typeface="Arial"/>
                    </a:rPr>
                    <a:t>СЛ</a:t>
                  </a:r>
                  <a:r>
                    <a:rPr b="0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 flipV="1">
                <a:off x="3203640" y="1773360"/>
                <a:ext cx="0" cy="403200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987640" y="1773360"/>
                <a:ext cx="21600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" descr=""/>
          <p:cNvPicPr/>
          <p:nvPr/>
        </p:nvPicPr>
        <p:blipFill>
          <a:blip r:embed="rId42"/>
          <a:stretch/>
        </p:blipFill>
        <p:spPr>
          <a:xfrm>
            <a:off x="2592360" y="418464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3"/>
          <a:stretch/>
        </p:blipFill>
        <p:spPr>
          <a:xfrm>
            <a:off x="2592360" y="360828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4"/>
          <a:stretch/>
        </p:blipFill>
        <p:spPr>
          <a:xfrm>
            <a:off x="2592360" y="2168640"/>
            <a:ext cx="720720" cy="901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5"/>
          <a:stretch/>
        </p:blipFill>
        <p:spPr>
          <a:xfrm>
            <a:off x="2593800" y="1590840"/>
            <a:ext cx="721080" cy="9014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2376360" y="1773360"/>
            <a:ext cx="2519640" cy="4464000"/>
            <a:chOff x="2376360" y="1773360"/>
            <a:chExt cx="2519640" cy="4464000"/>
          </a:xfrm>
        </p:grpSpPr>
        <p:grpSp>
          <p:nvGrpSpPr>
            <p:cNvPr id="166" name=""/>
            <p:cNvGrpSpPr/>
            <p:nvPr/>
          </p:nvGrpSpPr>
          <p:grpSpPr>
            <a:xfrm>
              <a:off x="2519280" y="1773360"/>
              <a:ext cx="2197080" cy="4321080"/>
              <a:chOff x="2519280" y="1773360"/>
              <a:chExt cx="2197080" cy="432108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4714920" y="1773360"/>
                <a:ext cx="0" cy="428472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19280" y="6058080"/>
                <a:ext cx="219708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35280" y="5726160"/>
                <a:ext cx="90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СЛ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376360" y="1773360"/>
              <a:ext cx="2519640" cy="4464000"/>
              <a:chOff x="2376360" y="1773360"/>
              <a:chExt cx="2519640" cy="446400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4894200" y="1773360"/>
                <a:ext cx="0" cy="446400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76360" y="6237360"/>
                <a:ext cx="251964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16360" y="1773360"/>
                <a:ext cx="179640" cy="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4" name="" descr=""/>
          <p:cNvPicPr/>
          <p:nvPr/>
        </p:nvPicPr>
        <p:blipFill>
          <a:blip r:embed="rId46"/>
          <a:stretch/>
        </p:blipFill>
        <p:spPr>
          <a:xfrm>
            <a:off x="468360" y="5157720"/>
            <a:ext cx="2089080" cy="1487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7"/>
          <a:stretch/>
        </p:blipFill>
        <p:spPr>
          <a:xfrm>
            <a:off x="4317840" y="418464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8"/>
          <a:stretch/>
        </p:blipFill>
        <p:spPr>
          <a:xfrm>
            <a:off x="4317840" y="3608280"/>
            <a:ext cx="720720" cy="90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9"/>
          <a:stretch/>
        </p:blipFill>
        <p:spPr>
          <a:xfrm>
            <a:off x="4317840" y="2168640"/>
            <a:ext cx="720720" cy="901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0"/>
          <a:stretch/>
        </p:blipFill>
        <p:spPr>
          <a:xfrm>
            <a:off x="4319640" y="1590840"/>
            <a:ext cx="720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1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8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6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3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8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8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3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3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8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3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8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3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8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3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8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8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23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150920" y="2384280"/>
            <a:ext cx="1042920" cy="1008000"/>
            <a:chOff x="1150920" y="2384280"/>
            <a:chExt cx="1042920" cy="1008000"/>
          </a:xfrm>
        </p:grpSpPr>
        <p:sp>
          <p:nvSpPr>
            <p:cNvPr id="184" name=""/>
            <p:cNvSpPr/>
            <p:nvPr/>
          </p:nvSpPr>
          <p:spPr>
            <a:xfrm>
              <a:off x="1168200" y="2384280"/>
              <a:ext cx="1008000" cy="1008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50920" y="2598480"/>
              <a:ext cx="104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132000" y="24940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0 извещателей и модулей в одной 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2997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я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Тревога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более 1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Неисправность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более 10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4292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горитм «Распределенный интелле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36720" y="3772080"/>
            <a:ext cx="3384720" cy="129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2421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наружение двойной адре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564000" y="359244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394160" y="359244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114880" y="359244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113440" y="474336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5832360" y="417528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3565440" y="474516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4392720" y="4745160"/>
            <a:ext cx="503280" cy="484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45080" y="384480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2720" y="49957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45080" y="38448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95280" y="3573360"/>
            <a:ext cx="2664000" cy="1898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5640" y="4041720"/>
            <a:ext cx="71280" cy="71640"/>
          </a:xfrm>
          <a:prstGeom prst="rect">
            <a:avLst/>
          </a:prstGeom>
          <a:solidFill>
            <a:srgbClr val="fc560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29354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кация на «двойник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242100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ниторинг качества сигнально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стройка параметров 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31840" y="3641760"/>
            <a:ext cx="2648160" cy="2666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131840" y="3641760"/>
            <a:ext cx="2648160" cy="2666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140360" y="3573360"/>
            <a:ext cx="2647800" cy="2667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40360" y="3573360"/>
            <a:ext cx="2647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132000" y="3249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томатическая и ручная адрес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фровой протоко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rgus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166920" y="4005360"/>
            <a:ext cx="1424160" cy="1542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132000" y="242100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троенные изоляторы коротких замы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24000" y="2241720"/>
            <a:ext cx="2663640" cy="1898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392720" y="46274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тор «Аврора-3П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6000" y="1989000"/>
            <a:ext cx="2781360" cy="2676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вещ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2421000"/>
            <a:ext cx="55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-ступенчатые алгоритмы комп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аптивный анализ опто- и термо- каналов (Аврора-ДТА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71640" y="6165720"/>
            <a:ext cx="7746840" cy="439920"/>
            <a:chOff x="971640" y="6165720"/>
            <a:chExt cx="7746840" cy="439920"/>
          </a:xfrm>
        </p:grpSpPr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8244000" y="6165720"/>
              <a:ext cx="474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971640" y="6238800"/>
              <a:ext cx="7127640" cy="25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1:31:59Z</dcterms:created>
  <dc:creator>Dyatchenko Andrey</dc:creator>
  <dc:description/>
  <dc:language>en-US</dc:language>
  <cp:lastModifiedBy>Andrey</cp:lastModifiedBy>
  <dcterms:modified xsi:type="dcterms:W3CDTF">2007-07-08T19:05:38Z</dcterms:modified>
  <cp:revision>235</cp:revision>
  <dc:subject/>
  <dc:title>Пожарка</dc:title>
</cp:coreProperties>
</file>