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7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12.png" ContentType="image/png"/>
  <Override PartName="/ppt/media/image31.png" ContentType="image/png"/>
  <Override PartName="/ppt/media/image29.png" ContentType="image/png"/>
  <Override PartName="/ppt/media/image35.png" ContentType="image/png"/>
  <Override PartName="/ppt/media/image5.jpeg" ContentType="image/jpeg"/>
  <Override PartName="/ppt/media/image38.png" ContentType="image/png"/>
  <Override PartName="/ppt/media/image8.png" ContentType="image/png"/>
  <Override PartName="/ppt/media/image13.png" ContentType="image/png"/>
  <Override PartName="/ppt/media/image37.png" ContentType="image/png"/>
  <Override PartName="/ppt/media/image30.png" ContentType="image/png"/>
  <Override PartName="/ppt/media/image42.png" ContentType="image/png"/>
  <Override PartName="/ppt/media/image11.png" ContentType="image/png"/>
  <Override PartName="/ppt/media/image18.png" ContentType="image/png"/>
  <Override PartName="/ppt/media/image20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75798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572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27160" y="-36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1160" y="739440"/>
            <a:ext cx="49341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6440" y="4687920"/>
            <a:ext cx="540360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70800"/>
            <a:ext cx="2927520" cy="4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27160" y="9370800"/>
            <a:ext cx="2927160" cy="4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C247A-8203-4035-A684-3D044E797D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76440" y="4687920"/>
            <a:ext cx="540360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следующего выступления «Беспроводное расширение и новые возможности адресно-аналоговых пожарных систе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дуга-240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76440" y="4687920"/>
            <a:ext cx="540360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дымовые извещатели серии «Аврора» имеют одинаковую конструкцию дымовой камеры, которая обеспечива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ную симметричность – одинаковую чувствительность независимо от направления с которого дым заходит в дымовую камер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альную сетку для защиты от насеком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ойной пылесборник для предотвращения попадания пыли в дымовую камеру. Т.е. конструкция такова, что с одной стороны обеспечивается определенное препятствие, чтобы пыль из заходящего в извещатель воздуха успевала осесть в пылесборниках, а с другой стороны обеспечивается и достаточная вентилируемость дымовой камеры для раннего обнаружения ды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76440" y="4687920"/>
            <a:ext cx="540360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вещатели представлены целой линейкой – адресно-аналоговые извещат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ымовы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пловы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бинированные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чны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оме того, что эти извещатели соответствуют Российским нормам, они удовлетворяют и Европейским нормам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-54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что подтверждено Британским Институтом Стандар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76440" y="4687920"/>
            <a:ext cx="540360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личные модули представлены входными модулями с контролем входа на обрыв и короткое замык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ходными модулями, как с контролем выходной цепи, так и с обычным релейным выход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ть и звуковой оповещатель «Терция-А» с питанием по сигнальной ли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модули кроме обычного исполнения имеют и мини-исполнение с дополнительной буквой «М» в назва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товится и микро-исполнение моду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76440" y="4687920"/>
            <a:ext cx="540360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я уже говорил одной из важных особенностей Радуги-240 является возможность использования беспроводного расширения на базе радиосистемы Стрелец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здесь особенно хотелось бы обратить внимание на то, что радиоканальный протокол Аргус-Диалог также является адресно-аналоговым. Т.е. имеется возможность передавать аналоговое значение от беспроводных пожарных извеща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адиоканальном сегмента системы используются 10 радиочастотных канал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ый извещатель «виден» на приборе отдельно, следовательно может быть до 240 извещателей в систем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каждый извещатель может работать до 7,5 лет от основной батареи и 2 месяца от резервн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76440" y="4687920"/>
            <a:ext cx="540360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исок проводных и радиоканальных извещателей и модулей достаточно велик. И какая бы не стояла задача по организации системы пожарной сигнализации ее можно решить как с использование проводных, так и с использованием радиоканальных устройств. Но самое интересное решение – их совместное примен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76440" y="4687920"/>
            <a:ext cx="540360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вращаясь к самому прибору приемно-контрольному «Радуга-240» хотелось отметить, что прибор может иметь 2 или 4 сигнальные ли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40 устройств в СЛ, всего 800 извещателей и модулей могут быть подключены к одному такому прибор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800 устройств могут быть программно объединены в 500 пожарных зон контроля. Часть из них (16, 48 или 96) могут быть дополнительно выведены на светодиодные индикаторы на передней пане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ционально может быть установлен термо-принте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 и это не все. 64 таких прибора могут быть объединены в единую се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76440" y="4687920"/>
            <a:ext cx="540360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СЛ мы располагаем проводные извещатели и модули и радиосегмен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полнительная внутренняя линия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485 позволяет подключить 32 дополнительных модуля или «повторителя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76440" y="4687920"/>
            <a:ext cx="540360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 всего таких приборов в сети может быть 6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меются и специальные приборы без СЛ, которые позволяют организовать пожарный пост такой системы в любом удобном мес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76440" y="4687920"/>
            <a:ext cx="540360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роме адресно-аналоговой системы Радуга-240 есть еще несколько новинок о которых тоже хотелось бы рассказа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76440" y="4687920"/>
            <a:ext cx="540360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новился извещатель Аврора-ДА. Изменена конструктивная схема прибо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явился долгожданный тепловой и комбинированный адресные извещатели для работы в СЛ приборов Радуга-2А и Радуга-4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76440" y="4687920"/>
            <a:ext cx="540360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ачну я с самого прибора «Радуга-240», его основной отличительной чер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мимо того, что это адресно-аналоговый прибор, он позволяет объединить проводную адресно-аналоговую систему с беспроводной и тоже адресно-аналоговой системой Стрелец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озможности такого объединения можно проиллюстрировать на примере много-этажного зд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76440" y="4687920"/>
            <a:ext cx="540360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бновился Блок Речевого Оповещения (БРО) проводной системы Орф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76440" y="4687920"/>
            <a:ext cx="540360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БРО имеет 16 выходов с суммарной мощностью 16 В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ля школ (в соответствии с НПБ 104-03) появилась возможность раздельного оповещения сначала персонала, а затем учащих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БРО хранит 4 сообщения общей продолжительностью 32 се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меется линейный вход подключения трансляции, например ГО и ЧС и выход неисправ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76440" y="4687920"/>
            <a:ext cx="540360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бновились внутренние схемы пусковых цепей приборов ППКУП «Старт-А» и «Старт-4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аньше могли возникать трудности при использовании пиропатронов, у которых один из контактов висит на «земле» из-за их неправильного подключ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связи с изменением пусковых цепей появился отдельный выход для подключения прибора «Старт-8». Ране Старт-8 подключался непосредственно на пусковые вых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76440" y="4687920"/>
            <a:ext cx="540360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терпел изменения и сам прибор Старт-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перь его выходы оповещения контролируются обратной полярностью. Это позволило избежать взмаргивания табличек и щелчки в звуковых оповещателях. Т.к. теперь контролируется наличие оконечного элемента в цепи оповещения можно включать несколько оповещателей с общим током до 2 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каскадного подключения следующего прибора Старт-8 появился отдельный вых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76440" y="4687920"/>
            <a:ext cx="540360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в рамках каждого этажа создается беспроводная система состоящая из нескольких радиорасширителей, а также извещателей и исполнительных устрой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76440" y="4687920"/>
            <a:ext cx="540360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 все эти радиоканальные этажные системы объединяются проводной сигнальной линией в единую проводную адресно-аналоговую систе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76440" y="4687920"/>
            <a:ext cx="540360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немся к самой проводной части сис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е основой является полностью цифровой протокол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gusDIAL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 позволяет включить в сигнальную линию 240 устройств (извещателей и модулей в различных комбинациях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мотря на такое большой число адресов, протокол устроен так, что время доставки сигнала «Пожар» не превышает 1 сек, а «Неисправность» - 10 се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изован алгоритм «Распределенный интеллект», когда решение о пожаре принимает не сама панель, как это устроено в большинстве аналогичных адресно-аналоговых систем, а панель совместно с самим извещател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76440" y="4687920"/>
            <a:ext cx="540360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адресно-аналоговые системы могут указать на неисправность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ойную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ресацию, когда в СЛ имеется два и более устройств с одним адрес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оме обнаружения двойной адресации протокол позволяет выдать команду на включение светодиодов для индикации самих «двойников» и быстрого устранения данной неиспра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76440" y="4687920"/>
            <a:ext cx="540360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е секрет, что параметры кабельной системы со временем «уходят», например происходит окисление контак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истема позволяет отслеживать это и подстраивать параметры протокола для обеспечения надежной и быстрой связ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76440" y="4687920"/>
            <a:ext cx="540360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ля надежной работы и устойчивости системы с таким большим числом устройств на сигнальной линии в каждом такое устройство имеется изоляторы коротких замыканий. Т.е. однократный обрыв или короткое замыкание сигнальной линии не приведет к выходу из строя ни одного устрой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отокол позволяет проводить автоматическую или ручную адресацию устройств. Для ручной адресации применяется программатор «Аврора-3П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76440" y="4687920"/>
            <a:ext cx="540360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ходя от протокола к самим извещателям необходимо отметить, что дымовые извещатели имеют двухступенчатые (аппаратные и программые) алгоритмы компенсации внешней засвет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дельная передача на контрольный прибор аналоговых значений теплового и дымового каналов для комбинированных извещателей Аврора-ДТАА позволяет организовать на контрольном приборе адаптивный анализ обоих канл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1461-8C73-4FBA-A59C-C8FEF5D19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F24B-CFF3-4F06-9027-E8734A224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CCFC-AD47-429F-95B4-5A106FA67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D00E-9F2F-4BB1-88EA-93A8493F5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23E0-6B77-4ABF-8FEE-7DB60CF8F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60B6-457F-4B68-A646-F3BA916E6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BD83-F9E2-4A6E-8D60-606B2A230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EAAC-01B5-4A3E-97AC-F4AE58F26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155B-5A38-4F02-9748-D27FD7A55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D692-D166-4DC2-A9D3-0515C5FF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53FD-72FB-4142-B6FE-D51E4097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FC57-5161-4090-A63E-D9E2E2DD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889D9-9F16-4432-8540-5387651C94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23.png"/><Relationship Id="rId8" Type="http://schemas.openxmlformats.org/officeDocument/2006/relationships/image" Target="../media/image22.png"/><Relationship Id="rId9" Type="http://schemas.openxmlformats.org/officeDocument/2006/relationships/image" Target="../media/image24.png"/><Relationship Id="rId10" Type="http://schemas.openxmlformats.org/officeDocument/2006/relationships/image" Target="../media/image3.png"/><Relationship Id="rId11" Type="http://schemas.openxmlformats.org/officeDocument/2006/relationships/image" Target="../media/image31.png"/><Relationship Id="rId12" Type="http://schemas.openxmlformats.org/officeDocument/2006/relationships/image" Target="../media/image32.png"/><Relationship Id="rId13" Type="http://schemas.openxmlformats.org/officeDocument/2006/relationships/image" Target="../media/image33.png"/><Relationship Id="rId14" Type="http://schemas.openxmlformats.org/officeDocument/2006/relationships/image" Target="../media/image34.png"/><Relationship Id="rId15" Type="http://schemas.openxmlformats.org/officeDocument/2006/relationships/image" Target="../media/image35.png"/><Relationship Id="rId16" Type="http://schemas.openxmlformats.org/officeDocument/2006/relationships/slideLayout" Target="../slideLayouts/slideLayout2.xml"/><Relationship Id="rId1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23.png"/><Relationship Id="rId7" Type="http://schemas.openxmlformats.org/officeDocument/2006/relationships/image" Target="../media/image22.png"/><Relationship Id="rId8" Type="http://schemas.openxmlformats.org/officeDocument/2006/relationships/image" Target="../media/image24.png"/><Relationship Id="rId9" Type="http://schemas.openxmlformats.org/officeDocument/2006/relationships/image" Target="../media/image3.png"/><Relationship Id="rId10" Type="http://schemas.openxmlformats.org/officeDocument/2006/relationships/image" Target="../media/image31.png"/><Relationship Id="rId11" Type="http://schemas.openxmlformats.org/officeDocument/2006/relationships/image" Target="../media/image32.png"/><Relationship Id="rId12" Type="http://schemas.openxmlformats.org/officeDocument/2006/relationships/image" Target="../media/image33.png"/><Relationship Id="rId13" Type="http://schemas.openxmlformats.org/officeDocument/2006/relationships/image" Target="../media/image34.png"/><Relationship Id="rId14" Type="http://schemas.openxmlformats.org/officeDocument/2006/relationships/image" Target="../media/image35.png"/><Relationship Id="rId15" Type="http://schemas.openxmlformats.org/officeDocument/2006/relationships/image" Target="../media/image2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5.png"/><Relationship Id="rId19" Type="http://schemas.openxmlformats.org/officeDocument/2006/relationships/image" Target="../media/image2.png"/><Relationship Id="rId20" Type="http://schemas.openxmlformats.org/officeDocument/2006/relationships/image" Target="../media/image27.png"/><Relationship Id="rId21" Type="http://schemas.openxmlformats.org/officeDocument/2006/relationships/oleObject" Target="../embeddings/oleObject2.bin"/><Relationship Id="rId22" Type="http://schemas.openxmlformats.org/officeDocument/2006/relationships/image" Target="../media/image28.png"/><Relationship Id="rId23" Type="http://schemas.openxmlformats.org/officeDocument/2006/relationships/image" Target="../media/image29.png"/><Relationship Id="rId24" Type="http://schemas.openxmlformats.org/officeDocument/2006/relationships/image" Target="../media/image30.png"/><Relationship Id="rId25" Type="http://schemas.openxmlformats.org/officeDocument/2006/relationships/image" Target="../media/image23.png"/><Relationship Id="rId26" Type="http://schemas.openxmlformats.org/officeDocument/2006/relationships/image" Target="../media/image22.png"/><Relationship Id="rId27" Type="http://schemas.openxmlformats.org/officeDocument/2006/relationships/image" Target="../media/image24.png"/><Relationship Id="rId28" Type="http://schemas.openxmlformats.org/officeDocument/2006/relationships/image" Target="../media/image3.png"/><Relationship Id="rId29" Type="http://schemas.openxmlformats.org/officeDocument/2006/relationships/image" Target="../media/image31.png"/><Relationship Id="rId30" Type="http://schemas.openxmlformats.org/officeDocument/2006/relationships/image" Target="../media/image32.png"/><Relationship Id="rId31" Type="http://schemas.openxmlformats.org/officeDocument/2006/relationships/image" Target="../media/image33.png"/><Relationship Id="rId32" Type="http://schemas.openxmlformats.org/officeDocument/2006/relationships/image" Target="../media/image34.png"/><Relationship Id="rId33" Type="http://schemas.openxmlformats.org/officeDocument/2006/relationships/image" Target="../media/image35.png"/><Relationship Id="rId34" Type="http://schemas.openxmlformats.org/officeDocument/2006/relationships/image" Target="../media/image2.png"/><Relationship Id="rId35" Type="http://schemas.openxmlformats.org/officeDocument/2006/relationships/image" Target="../media/image27.png"/><Relationship Id="rId36" Type="http://schemas.openxmlformats.org/officeDocument/2006/relationships/oleObject" Target="../embeddings/oleObject3.bin"/><Relationship Id="rId37" Type="http://schemas.openxmlformats.org/officeDocument/2006/relationships/image" Target="../media/image28.png"/><Relationship Id="rId38" Type="http://schemas.openxmlformats.org/officeDocument/2006/relationships/image" Target="../media/image29.png"/><Relationship Id="rId39" Type="http://schemas.openxmlformats.org/officeDocument/2006/relationships/image" Target="../media/image30.png"/><Relationship Id="rId40" Type="http://schemas.openxmlformats.org/officeDocument/2006/relationships/image" Target="../media/image23.png"/><Relationship Id="rId41" Type="http://schemas.openxmlformats.org/officeDocument/2006/relationships/image" Target="../media/image22.png"/><Relationship Id="rId42" Type="http://schemas.openxmlformats.org/officeDocument/2006/relationships/image" Target="../media/image24.png"/><Relationship Id="rId43" Type="http://schemas.openxmlformats.org/officeDocument/2006/relationships/image" Target="../media/image3.png"/><Relationship Id="rId44" Type="http://schemas.openxmlformats.org/officeDocument/2006/relationships/image" Target="../media/image31.png"/><Relationship Id="rId45" Type="http://schemas.openxmlformats.org/officeDocument/2006/relationships/image" Target="../media/image32.png"/><Relationship Id="rId46" Type="http://schemas.openxmlformats.org/officeDocument/2006/relationships/image" Target="../media/image33.png"/><Relationship Id="rId47" Type="http://schemas.openxmlformats.org/officeDocument/2006/relationships/image" Target="../media/image34.png"/><Relationship Id="rId48" Type="http://schemas.openxmlformats.org/officeDocument/2006/relationships/image" Target="../media/image35.png"/><Relationship Id="rId49" Type="http://schemas.openxmlformats.org/officeDocument/2006/relationships/slideLayout" Target="../slideLayouts/slideLayout2.xml"/><Relationship Id="rId50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7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6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8.png"/><Relationship Id="rId15" Type="http://schemas.openxmlformats.org/officeDocument/2006/relationships/image" Target="../media/image6.png"/><Relationship Id="rId16" Type="http://schemas.openxmlformats.org/officeDocument/2006/relationships/image" Target="../media/image9.png"/><Relationship Id="rId17" Type="http://schemas.openxmlformats.org/officeDocument/2006/relationships/image" Target="../media/image5.jpeg"/><Relationship Id="rId18" Type="http://schemas.openxmlformats.org/officeDocument/2006/relationships/image" Target="../media/image6.png"/><Relationship Id="rId19" Type="http://schemas.openxmlformats.org/officeDocument/2006/relationships/image" Target="../media/image7.jpe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6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8.png"/><Relationship Id="rId29" Type="http://schemas.openxmlformats.org/officeDocument/2006/relationships/image" Target="../media/image6.png"/><Relationship Id="rId30" Type="http://schemas.openxmlformats.org/officeDocument/2006/relationships/image" Target="../media/image9.png"/><Relationship Id="rId31" Type="http://schemas.openxmlformats.org/officeDocument/2006/relationships/slideLayout" Target="../slideLayouts/slideLayout2.xml"/><Relationship Id="rId3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7.jpe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7.jpe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6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7.jpe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6.png"/><Relationship Id="rId34" Type="http://schemas.openxmlformats.org/officeDocument/2006/relationships/image" Target="../media/image6.png"/><Relationship Id="rId35" Type="http://schemas.openxmlformats.org/officeDocument/2006/relationships/image" Target="../media/image6.png"/><Relationship Id="rId36" Type="http://schemas.openxmlformats.org/officeDocument/2006/relationships/image" Target="../media/image6.png"/><Relationship Id="rId37" Type="http://schemas.openxmlformats.org/officeDocument/2006/relationships/image" Target="../media/image7.jpeg"/><Relationship Id="rId38" Type="http://schemas.openxmlformats.org/officeDocument/2006/relationships/image" Target="../media/image8.png"/><Relationship Id="rId39" Type="http://schemas.openxmlformats.org/officeDocument/2006/relationships/image" Target="../media/image8.png"/><Relationship Id="rId40" Type="http://schemas.openxmlformats.org/officeDocument/2006/relationships/image" Target="../media/image8.png"/><Relationship Id="rId41" Type="http://schemas.openxmlformats.org/officeDocument/2006/relationships/image" Target="../media/image8.png"/><Relationship Id="rId42" Type="http://schemas.openxmlformats.org/officeDocument/2006/relationships/image" Target="../media/image9.png"/><Relationship Id="rId43" Type="http://schemas.openxmlformats.org/officeDocument/2006/relationships/image" Target="../media/image9.png"/><Relationship Id="rId44" Type="http://schemas.openxmlformats.org/officeDocument/2006/relationships/image" Target="../media/image9.png"/><Relationship Id="rId45" Type="http://schemas.openxmlformats.org/officeDocument/2006/relationships/image" Target="../media/image9.png"/><Relationship Id="rId46" Type="http://schemas.openxmlformats.org/officeDocument/2006/relationships/image" Target="../media/image3.png"/><Relationship Id="rId47" Type="http://schemas.openxmlformats.org/officeDocument/2006/relationships/image" Target="../media/image9.png"/><Relationship Id="rId48" Type="http://schemas.openxmlformats.org/officeDocument/2006/relationships/image" Target="../media/image9.png"/><Relationship Id="rId49" Type="http://schemas.openxmlformats.org/officeDocument/2006/relationships/image" Target="../media/image9.png"/><Relationship Id="rId50" Type="http://schemas.openxmlformats.org/officeDocument/2006/relationships/image" Target="../media/image9.png"/><Relationship Id="rId51" Type="http://schemas.openxmlformats.org/officeDocument/2006/relationships/slideLayout" Target="../slideLayouts/slideLayout2.xml"/><Relationship Id="rId5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2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187280" y="6302520"/>
            <a:ext cx="7746840" cy="439560"/>
            <a:chOff x="1187280" y="6302520"/>
            <a:chExt cx="7746840" cy="439560"/>
          </a:xfrm>
        </p:grpSpPr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8459640" y="6302520"/>
              <a:ext cx="474480" cy="43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1187280" y="6375240"/>
              <a:ext cx="7127640" cy="252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306360" y="2060640"/>
            <a:ext cx="8532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Беспроводное расширение и новые возможности адресно-аналоговых пожарных систем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Радуга-240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звещате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592360" y="1773360"/>
            <a:ext cx="3745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имметричность дымовой кам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щита от насеком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войной пылесбор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истема отража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971640" y="6165720"/>
            <a:ext cx="7746840" cy="439920"/>
            <a:chOff x="971640" y="6165720"/>
            <a:chExt cx="7746840" cy="439920"/>
          </a:xfrm>
        </p:grpSpPr>
        <p:pic>
          <p:nvPicPr>
            <p:cNvPr id="235" name="" descr=""/>
            <p:cNvPicPr/>
            <p:nvPr/>
          </p:nvPicPr>
          <p:blipFill>
            <a:blip r:embed="rId1"/>
            <a:stretch/>
          </p:blipFill>
          <p:spPr>
            <a:xfrm>
              <a:off x="8244000" y="6165720"/>
              <a:ext cx="474480" cy="4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971640" y="6238800"/>
              <a:ext cx="7127640" cy="25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216000" y="2023920"/>
            <a:ext cx="2041560" cy="20415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250920" y="4406760"/>
            <a:ext cx="2041560" cy="143532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6746760" y="4422600"/>
            <a:ext cx="2027520" cy="14018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6732720" y="2343240"/>
            <a:ext cx="203040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звещате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132000" y="2421000"/>
            <a:ext cx="24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врора-ДА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врора-ТА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врора-ДТА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971640" y="6165720"/>
            <a:ext cx="7746840" cy="439920"/>
            <a:chOff x="971640" y="6165720"/>
            <a:chExt cx="7746840" cy="439920"/>
          </a:xfrm>
        </p:grpSpPr>
        <p:pic>
          <p:nvPicPr>
            <p:cNvPr id="244" name="" descr=""/>
            <p:cNvPicPr/>
            <p:nvPr/>
          </p:nvPicPr>
          <p:blipFill>
            <a:blip r:embed="rId1"/>
            <a:stretch/>
          </p:blipFill>
          <p:spPr>
            <a:xfrm>
              <a:off x="8244000" y="6165720"/>
              <a:ext cx="474480" cy="4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971640" y="6238800"/>
              <a:ext cx="7127640" cy="25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3132000" y="4508640"/>
            <a:ext cx="54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арантия – 5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386064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ПР-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468360" y="2600280"/>
            <a:ext cx="2233440" cy="107784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792000" y="386064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оду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284720" y="2421000"/>
            <a:ext cx="27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ходные моду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В-1, ММВ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971640" y="6165720"/>
            <a:ext cx="7746840" cy="439920"/>
            <a:chOff x="971640" y="6165720"/>
            <a:chExt cx="7746840" cy="439920"/>
          </a:xfrm>
        </p:grpSpPr>
        <p:pic>
          <p:nvPicPr>
            <p:cNvPr id="253" name="" descr=""/>
            <p:cNvPicPr/>
            <p:nvPr/>
          </p:nvPicPr>
          <p:blipFill>
            <a:blip r:embed="rId1"/>
            <a:stretch/>
          </p:blipFill>
          <p:spPr>
            <a:xfrm>
              <a:off x="8244000" y="6165720"/>
              <a:ext cx="474480" cy="4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971640" y="6238800"/>
              <a:ext cx="7127640" cy="25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4284720" y="3573360"/>
            <a:ext cx="453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сполнительные моду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И-1, ММИ-1 (с контроле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И-2, ММИ-2 (без контрол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142920" y="1582560"/>
            <a:ext cx="2238480" cy="181008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755640" y="2508120"/>
            <a:ext cx="2638440" cy="167652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4"/>
          <a:stretch/>
        </p:blipFill>
        <p:spPr>
          <a:xfrm>
            <a:off x="324000" y="4508640"/>
            <a:ext cx="2266920" cy="165096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4284720" y="4978440"/>
            <a:ext cx="45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вуковой оповещ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ерция-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5"/>
          <a:stretch/>
        </p:blipFill>
        <p:spPr>
          <a:xfrm>
            <a:off x="1079640" y="3465360"/>
            <a:ext cx="255564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"/>
          <p:cNvGraphicFramePr/>
          <p:nvPr/>
        </p:nvGraphicFramePr>
        <p:xfrm>
          <a:off x="0" y="1773360"/>
          <a:ext cx="4392720" cy="337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73360"/>
                    <a:ext cx="4392720" cy="33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"/>
          <p:cNvSpPr/>
          <p:nvPr/>
        </p:nvSpPr>
        <p:spPr>
          <a:xfrm>
            <a:off x="4500720" y="2276640"/>
            <a:ext cx="4211640" cy="38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вухсторонни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дресно-аналоговый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токол Аргус-Диалог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0 радиочастотных кана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 240 извещателей в систе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бота от батаре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,5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ет + 2 меся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971640" y="6159600"/>
            <a:ext cx="7743600" cy="43812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Беспроводное расширение - «Стрелец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95280" y="4797360"/>
            <a:ext cx="10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РП-2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943280" y="5084640"/>
            <a:ext cx="0" cy="720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6360" y="5805360"/>
            <a:ext cx="2700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95280" y="5842080"/>
            <a:ext cx="25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Л «Радуга-3/240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0" name=""/>
          <p:cNvGraphicFramePr/>
          <p:nvPr/>
        </p:nvGraphicFramePr>
        <p:xfrm>
          <a:off x="0" y="1773360"/>
          <a:ext cx="3059280" cy="231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73360"/>
                    <a:ext cx="3059280" cy="23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"/>
          <p:cNvSpPr/>
          <p:nvPr/>
        </p:nvSpPr>
        <p:spPr>
          <a:xfrm>
            <a:off x="246240" y="4076640"/>
            <a:ext cx="101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РП-2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401840" y="4041720"/>
            <a:ext cx="0" cy="512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15800" y="4545000"/>
            <a:ext cx="19465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85840" y="4761000"/>
            <a:ext cx="212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Л «Радуга-3/240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Гибридная адресно-аналоговая сист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971640" y="6165720"/>
            <a:ext cx="7746840" cy="439920"/>
            <a:chOff x="971640" y="6165720"/>
            <a:chExt cx="7746840" cy="439920"/>
          </a:xfrm>
        </p:grpSpPr>
        <p:pic>
          <p:nvPicPr>
            <p:cNvPr id="278" name="" descr=""/>
            <p:cNvPicPr/>
            <p:nvPr/>
          </p:nvPicPr>
          <p:blipFill>
            <a:blip r:embed="rId3"/>
            <a:stretch/>
          </p:blipFill>
          <p:spPr>
            <a:xfrm>
              <a:off x="8244000" y="6165720"/>
              <a:ext cx="474480" cy="4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971640" y="6238800"/>
              <a:ext cx="7127640" cy="25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80" name=""/>
          <p:cNvGraphicFramePr/>
          <p:nvPr/>
        </p:nvGraphicFramePr>
        <p:xfrm>
          <a:off x="3132000" y="1736640"/>
          <a:ext cx="5832720" cy="4376880"/>
        </p:xfrm>
        <a:graphic>
          <a:graphicData uri="http://schemas.openxmlformats.org/drawingml/2006/table">
            <a:tbl>
              <a:tblPr/>
              <a:tblGrid>
                <a:gridCol w="2178360"/>
                <a:gridCol w="1919160"/>
                <a:gridCol w="173520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од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дио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наль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вещат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томатичес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рора-ДАА / ТАА / ДТА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рора-ДР / ТР / ДТ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вещат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ч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ПР-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ПР-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локи вход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В-1, ММВ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И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локи исполнитель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-1, ММИ-1, МИ-2, ММИ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Б-Р, ИБ-Р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вуковые оповещат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рция-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рена-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ПКП «Радуга-240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971640" y="6159600"/>
            <a:ext cx="7743600" cy="43812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142920" y="2349360"/>
            <a:ext cx="2951280" cy="210204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132000" y="2421000"/>
            <a:ext cx="601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– 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стройств в СЛ (всего 8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жарных зон (16, 48, 96 светодиод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рмо-принтер (опц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ъединение в сеть до 64 приб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" name=""/>
          <p:cNvGrpSpPr/>
          <p:nvPr/>
        </p:nvGrpSpPr>
        <p:grpSpPr>
          <a:xfrm>
            <a:off x="2843280" y="4460760"/>
            <a:ext cx="5689440" cy="792360"/>
            <a:chOff x="2843280" y="4460760"/>
            <a:chExt cx="5689440" cy="792360"/>
          </a:xfrm>
        </p:grpSpPr>
        <p:sp>
          <p:nvSpPr>
            <p:cNvPr id="286" name=""/>
            <p:cNvSpPr/>
            <p:nvPr/>
          </p:nvSpPr>
          <p:spPr>
            <a:xfrm>
              <a:off x="2843280" y="4460760"/>
              <a:ext cx="5689440" cy="792360"/>
            </a:xfrm>
            <a:prstGeom prst="roundRect">
              <a:avLst>
                <a:gd name="adj" fmla="val 36074"/>
              </a:avLst>
            </a:prstGeom>
            <a:noFill/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457440" y="4640400"/>
              <a:ext cx="9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9900"/>
                  </a:solidFill>
                  <a:latin typeface="Arial"/>
                </a:rPr>
                <a:t>СЛ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971640" y="6159600"/>
            <a:ext cx="7743600" cy="4381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ПКП «Радуга-240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5184720" y="2516040"/>
            <a:ext cx="3059280" cy="2352960"/>
          </a:xfrm>
          <a:prstGeom prst="rect">
            <a:avLst/>
          </a:prstGeom>
          <a:ln w="0">
            <a:noFill/>
          </a:ln>
        </p:spPr>
      </p:pic>
      <p:grpSp>
        <p:nvGrpSpPr>
          <p:cNvPr id="291" name=""/>
          <p:cNvGrpSpPr/>
          <p:nvPr/>
        </p:nvGrpSpPr>
        <p:grpSpPr>
          <a:xfrm>
            <a:off x="4464000" y="4172040"/>
            <a:ext cx="4500720" cy="1344600"/>
            <a:chOff x="4464000" y="4172040"/>
            <a:chExt cx="4500720" cy="1344600"/>
          </a:xfrm>
        </p:grpSpPr>
        <p:graphicFrame>
          <p:nvGraphicFramePr>
            <p:cNvPr id="292" name=""/>
            <p:cNvGraphicFramePr/>
            <p:nvPr/>
          </p:nvGraphicFramePr>
          <p:xfrm>
            <a:off x="5000760" y="4172040"/>
            <a:ext cx="471240" cy="473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9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00760" y="4172040"/>
                      <a:ext cx="471240" cy="47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294" name="" descr=""/>
            <p:cNvPicPr/>
            <p:nvPr/>
          </p:nvPicPr>
          <p:blipFill>
            <a:blip r:embed="rId5"/>
            <a:stretch/>
          </p:blipFill>
          <p:spPr>
            <a:xfrm>
              <a:off x="7380360" y="4172040"/>
              <a:ext cx="622080" cy="63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" descr=""/>
            <p:cNvPicPr/>
            <p:nvPr/>
          </p:nvPicPr>
          <p:blipFill>
            <a:blip r:embed="rId6"/>
            <a:stretch/>
          </p:blipFill>
          <p:spPr>
            <a:xfrm>
              <a:off x="8244000" y="4497480"/>
              <a:ext cx="720720" cy="62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" descr=""/>
            <p:cNvPicPr/>
            <p:nvPr/>
          </p:nvPicPr>
          <p:blipFill>
            <a:blip r:embed="rId7"/>
            <a:stretch/>
          </p:blipFill>
          <p:spPr>
            <a:xfrm>
              <a:off x="5761080" y="5108400"/>
              <a:ext cx="61272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" descr=""/>
            <p:cNvPicPr/>
            <p:nvPr/>
          </p:nvPicPr>
          <p:blipFill>
            <a:blip r:embed="rId8"/>
            <a:stretch/>
          </p:blipFill>
          <p:spPr>
            <a:xfrm>
              <a:off x="7093080" y="4964040"/>
              <a:ext cx="68400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" descr=""/>
            <p:cNvPicPr/>
            <p:nvPr/>
          </p:nvPicPr>
          <p:blipFill>
            <a:blip r:embed="rId9"/>
            <a:stretch/>
          </p:blipFill>
          <p:spPr>
            <a:xfrm>
              <a:off x="4464000" y="4892760"/>
              <a:ext cx="755640" cy="550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9" name=""/>
          <p:cNvGrpSpPr/>
          <p:nvPr/>
        </p:nvGrpSpPr>
        <p:grpSpPr>
          <a:xfrm>
            <a:off x="3024360" y="3236760"/>
            <a:ext cx="2122200" cy="368280"/>
            <a:chOff x="3024360" y="3236760"/>
            <a:chExt cx="2122200" cy="368280"/>
          </a:xfrm>
        </p:grpSpPr>
        <p:sp>
          <p:nvSpPr>
            <p:cNvPr id="300" name=""/>
            <p:cNvSpPr/>
            <p:nvPr/>
          </p:nvSpPr>
          <p:spPr>
            <a:xfrm>
              <a:off x="3024360" y="3311280"/>
              <a:ext cx="1368360" cy="216000"/>
            </a:xfrm>
            <a:prstGeom prst="roundRect">
              <a:avLst>
                <a:gd name="adj" fmla="val 36074"/>
              </a:avLst>
            </a:prstGeom>
            <a:noFill/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211640" y="3236760"/>
              <a:ext cx="93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9900"/>
                  </a:solidFill>
                  <a:latin typeface="Arial"/>
                </a:rPr>
                <a:t>СЛ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3024360" y="3597120"/>
            <a:ext cx="2122200" cy="368280"/>
            <a:chOff x="3024360" y="3597120"/>
            <a:chExt cx="2122200" cy="368280"/>
          </a:xfrm>
        </p:grpSpPr>
        <p:sp>
          <p:nvSpPr>
            <p:cNvPr id="303" name=""/>
            <p:cNvSpPr/>
            <p:nvPr/>
          </p:nvSpPr>
          <p:spPr>
            <a:xfrm>
              <a:off x="3024360" y="3671640"/>
              <a:ext cx="1368360" cy="216000"/>
            </a:xfrm>
            <a:prstGeom prst="roundRect">
              <a:avLst>
                <a:gd name="adj" fmla="val 36074"/>
              </a:avLst>
            </a:prstGeom>
            <a:noFill/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211640" y="3597120"/>
              <a:ext cx="93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9900"/>
                  </a:solidFill>
                  <a:latin typeface="Arial"/>
                </a:rPr>
                <a:t>СЛ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3024360" y="3956040"/>
            <a:ext cx="2124000" cy="368280"/>
            <a:chOff x="3024360" y="3956040"/>
            <a:chExt cx="2124000" cy="368280"/>
          </a:xfrm>
        </p:grpSpPr>
        <p:sp>
          <p:nvSpPr>
            <p:cNvPr id="306" name=""/>
            <p:cNvSpPr/>
            <p:nvPr/>
          </p:nvSpPr>
          <p:spPr>
            <a:xfrm>
              <a:off x="3024360" y="4030920"/>
              <a:ext cx="1368360" cy="215640"/>
            </a:xfrm>
            <a:prstGeom prst="roundRect">
              <a:avLst>
                <a:gd name="adj" fmla="val 36074"/>
              </a:avLst>
            </a:prstGeom>
            <a:noFill/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213080" y="3956040"/>
              <a:ext cx="9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9900"/>
                  </a:solidFill>
                  <a:latin typeface="Arial"/>
                </a:rPr>
                <a:t>СЛ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8" name="" descr=""/>
          <p:cNvPicPr/>
          <p:nvPr/>
        </p:nvPicPr>
        <p:blipFill>
          <a:blip r:embed="rId10"/>
          <a:stretch/>
        </p:blipFill>
        <p:spPr>
          <a:xfrm>
            <a:off x="1042920" y="3086280"/>
            <a:ext cx="2233800" cy="1590480"/>
          </a:xfrm>
          <a:prstGeom prst="rect">
            <a:avLst/>
          </a:prstGeom>
          <a:ln w="0">
            <a:noFill/>
          </a:ln>
        </p:spPr>
      </p:pic>
      <p:grpSp>
        <p:nvGrpSpPr>
          <p:cNvPr id="309" name=""/>
          <p:cNvGrpSpPr/>
          <p:nvPr/>
        </p:nvGrpSpPr>
        <p:grpSpPr>
          <a:xfrm>
            <a:off x="34920" y="1601640"/>
            <a:ext cx="5832360" cy="2006280"/>
            <a:chOff x="34920" y="1601640"/>
            <a:chExt cx="5832360" cy="2006280"/>
          </a:xfrm>
        </p:grpSpPr>
        <p:sp>
          <p:nvSpPr>
            <p:cNvPr id="310" name=""/>
            <p:cNvSpPr/>
            <p:nvPr/>
          </p:nvSpPr>
          <p:spPr>
            <a:xfrm>
              <a:off x="287280" y="1805040"/>
              <a:ext cx="122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6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вх/вы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440000" y="1805040"/>
              <a:ext cx="122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вы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268360" y="1805040"/>
              <a:ext cx="169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вых опо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103640" y="2394000"/>
              <a:ext cx="57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00"/>
                  </a:solidFill>
                  <a:latin typeface="Arial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816360" y="1805040"/>
              <a:ext cx="826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 Ш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4920" y="271764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RS-48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4000" y="2394000"/>
              <a:ext cx="57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655640" y="2394000"/>
              <a:ext cx="57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843280" y="2394000"/>
              <a:ext cx="57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291280" y="2106720"/>
              <a:ext cx="57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00"/>
                  </a:solidFill>
                  <a:latin typeface="Arial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0" name=""/>
            <p:cNvCxnSpPr/>
            <p:nvPr/>
          </p:nvCxnSpPr>
          <p:spPr>
            <a:xfrm flipH="1" rot="10800000">
              <a:off x="1076760" y="1961280"/>
              <a:ext cx="4358520" cy="1647000"/>
            </a:xfrm>
            <a:prstGeom prst="bentConnector4">
              <a:avLst>
                <a:gd name="adj1" fmla="val -5245"/>
                <a:gd name="adj2" fmla="val 76257"/>
              </a:avLst>
            </a:prstGeom>
            <a:ln w="25560">
              <a:solidFill>
                <a:srgbClr val="008000"/>
              </a:solidFill>
              <a:miter/>
            </a:ln>
          </p:spPr>
        </p:cxnSp>
        <p:pic>
          <p:nvPicPr>
            <p:cNvPr id="321" name="" descr=""/>
            <p:cNvPicPr/>
            <p:nvPr/>
          </p:nvPicPr>
          <p:blipFill>
            <a:blip r:embed="rId11"/>
            <a:stretch/>
          </p:blipFill>
          <p:spPr>
            <a:xfrm>
              <a:off x="574560" y="2189160"/>
              <a:ext cx="649440" cy="30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" descr=""/>
            <p:cNvPicPr/>
            <p:nvPr/>
          </p:nvPicPr>
          <p:blipFill>
            <a:blip r:embed="rId12"/>
            <a:stretch/>
          </p:blipFill>
          <p:spPr>
            <a:xfrm>
              <a:off x="1692360" y="2185920"/>
              <a:ext cx="720720" cy="30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3" name="" descr=""/>
            <p:cNvPicPr/>
            <p:nvPr/>
          </p:nvPicPr>
          <p:blipFill>
            <a:blip r:embed="rId13"/>
            <a:stretch/>
          </p:blipFill>
          <p:spPr>
            <a:xfrm>
              <a:off x="2801880" y="2147760"/>
              <a:ext cx="628560" cy="38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" descr=""/>
            <p:cNvPicPr/>
            <p:nvPr/>
          </p:nvPicPr>
          <p:blipFill>
            <a:blip r:embed="rId14"/>
            <a:stretch/>
          </p:blipFill>
          <p:spPr>
            <a:xfrm>
              <a:off x="3833640" y="2124000"/>
              <a:ext cx="792360" cy="43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" descr=""/>
            <p:cNvPicPr/>
            <p:nvPr/>
          </p:nvPicPr>
          <p:blipFill>
            <a:blip r:embed="rId15"/>
            <a:stretch/>
          </p:blipFill>
          <p:spPr>
            <a:xfrm>
              <a:off x="5041800" y="1601640"/>
              <a:ext cx="717480" cy="606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700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252360" y="2205000"/>
            <a:ext cx="7056360" cy="3240000"/>
          </a:xfrm>
          <a:prstGeom prst="roundRect">
            <a:avLst>
              <a:gd name="adj" fmla="val 20037"/>
            </a:avLst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4920" y="1601640"/>
            <a:ext cx="8929800" cy="3915000"/>
            <a:chOff x="34920" y="1601640"/>
            <a:chExt cx="8929800" cy="3915000"/>
          </a:xfrm>
        </p:grpSpPr>
        <p:grpSp>
          <p:nvGrpSpPr>
            <p:cNvPr id="328" name=""/>
            <p:cNvGrpSpPr/>
            <p:nvPr/>
          </p:nvGrpSpPr>
          <p:grpSpPr>
            <a:xfrm>
              <a:off x="2843280" y="4460760"/>
              <a:ext cx="5689440" cy="792360"/>
              <a:chOff x="2843280" y="4460760"/>
              <a:chExt cx="5689440" cy="792360"/>
            </a:xfrm>
          </p:grpSpPr>
          <p:sp>
            <p:nvSpPr>
              <p:cNvPr id="329" name=""/>
              <p:cNvSpPr/>
              <p:nvPr/>
            </p:nvSpPr>
            <p:spPr>
              <a:xfrm>
                <a:off x="2843280" y="4460760"/>
                <a:ext cx="5689440" cy="792360"/>
              </a:xfrm>
              <a:prstGeom prst="roundRect">
                <a:avLst>
                  <a:gd name="adj" fmla="val 36074"/>
                </a:avLst>
              </a:prstGeom>
              <a:noFill/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457440" y="4640400"/>
                <a:ext cx="935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9900"/>
                    </a:solidFill>
                    <a:latin typeface="Arial"/>
                  </a:rPr>
                  <a:t>СЛ 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31" name="" descr=""/>
            <p:cNvPicPr/>
            <p:nvPr/>
          </p:nvPicPr>
          <p:blipFill>
            <a:blip r:embed="rId1"/>
            <a:stretch/>
          </p:blipFill>
          <p:spPr>
            <a:xfrm>
              <a:off x="5184720" y="2516040"/>
              <a:ext cx="3059280" cy="2352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2" name=""/>
            <p:cNvGrpSpPr/>
            <p:nvPr/>
          </p:nvGrpSpPr>
          <p:grpSpPr>
            <a:xfrm>
              <a:off x="4464000" y="4172040"/>
              <a:ext cx="4500720" cy="1344600"/>
              <a:chOff x="4464000" y="4172040"/>
              <a:chExt cx="4500720" cy="1344600"/>
            </a:xfrm>
          </p:grpSpPr>
          <p:graphicFrame>
            <p:nvGraphicFramePr>
              <p:cNvPr id="333" name=""/>
              <p:cNvGraphicFramePr/>
              <p:nvPr/>
            </p:nvGraphicFramePr>
            <p:xfrm>
              <a:off x="5000760" y="4172040"/>
              <a:ext cx="471240" cy="47304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334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5000760" y="4172040"/>
                        <a:ext cx="471240" cy="473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33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380360" y="4172040"/>
                <a:ext cx="622080" cy="63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244000" y="4497480"/>
                <a:ext cx="720720" cy="628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7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761080" y="5108400"/>
                <a:ext cx="612720" cy="38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8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093080" y="4964040"/>
                <a:ext cx="684000" cy="552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464000" y="4892760"/>
                <a:ext cx="755640" cy="550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40" name=""/>
            <p:cNvGrpSpPr/>
            <p:nvPr/>
          </p:nvGrpSpPr>
          <p:grpSpPr>
            <a:xfrm>
              <a:off x="3024360" y="3236760"/>
              <a:ext cx="2122200" cy="368280"/>
              <a:chOff x="3024360" y="3236760"/>
              <a:chExt cx="2122200" cy="368280"/>
            </a:xfrm>
          </p:grpSpPr>
          <p:sp>
            <p:nvSpPr>
              <p:cNvPr id="341" name=""/>
              <p:cNvSpPr/>
              <p:nvPr/>
            </p:nvSpPr>
            <p:spPr>
              <a:xfrm>
                <a:off x="3024360" y="3311280"/>
                <a:ext cx="1368360" cy="216000"/>
              </a:xfrm>
              <a:prstGeom prst="roundRect">
                <a:avLst>
                  <a:gd name="adj" fmla="val 36074"/>
                </a:avLst>
              </a:prstGeom>
              <a:noFill/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211640" y="3236760"/>
                <a:ext cx="93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9900"/>
                    </a:solidFill>
                    <a:latin typeface="Arial"/>
                  </a:rPr>
                  <a:t>СЛ 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3" name=""/>
            <p:cNvGrpSpPr/>
            <p:nvPr/>
          </p:nvGrpSpPr>
          <p:grpSpPr>
            <a:xfrm>
              <a:off x="3024360" y="3597120"/>
              <a:ext cx="2122200" cy="368280"/>
              <a:chOff x="3024360" y="3597120"/>
              <a:chExt cx="2122200" cy="368280"/>
            </a:xfrm>
          </p:grpSpPr>
          <p:sp>
            <p:nvSpPr>
              <p:cNvPr id="344" name=""/>
              <p:cNvSpPr/>
              <p:nvPr/>
            </p:nvSpPr>
            <p:spPr>
              <a:xfrm>
                <a:off x="3024360" y="3671640"/>
                <a:ext cx="1368360" cy="216000"/>
              </a:xfrm>
              <a:prstGeom prst="roundRect">
                <a:avLst>
                  <a:gd name="adj" fmla="val 36074"/>
                </a:avLst>
              </a:prstGeom>
              <a:noFill/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211640" y="3597120"/>
                <a:ext cx="93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9900"/>
                    </a:solidFill>
                    <a:latin typeface="Arial"/>
                  </a:rPr>
                  <a:t>СЛ 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6" name=""/>
            <p:cNvGrpSpPr/>
            <p:nvPr/>
          </p:nvGrpSpPr>
          <p:grpSpPr>
            <a:xfrm>
              <a:off x="3024360" y="3956040"/>
              <a:ext cx="2124000" cy="368280"/>
              <a:chOff x="3024360" y="3956040"/>
              <a:chExt cx="2124000" cy="368280"/>
            </a:xfrm>
          </p:grpSpPr>
          <p:sp>
            <p:nvSpPr>
              <p:cNvPr id="347" name=""/>
              <p:cNvSpPr/>
              <p:nvPr/>
            </p:nvSpPr>
            <p:spPr>
              <a:xfrm>
                <a:off x="3024360" y="4030920"/>
                <a:ext cx="1368360" cy="215640"/>
              </a:xfrm>
              <a:prstGeom prst="roundRect">
                <a:avLst>
                  <a:gd name="adj" fmla="val 36074"/>
                </a:avLst>
              </a:prstGeom>
              <a:noFill/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213080" y="3956040"/>
                <a:ext cx="935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9900"/>
                    </a:solidFill>
                    <a:latin typeface="Arial"/>
                  </a:rPr>
                  <a:t>СЛ 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49" name="" descr=""/>
            <p:cNvPicPr/>
            <p:nvPr/>
          </p:nvPicPr>
          <p:blipFill>
            <a:blip r:embed="rId9"/>
            <a:stretch/>
          </p:blipFill>
          <p:spPr>
            <a:xfrm>
              <a:off x="1042920" y="3086280"/>
              <a:ext cx="2233800" cy="1590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0" name=""/>
            <p:cNvGrpSpPr/>
            <p:nvPr/>
          </p:nvGrpSpPr>
          <p:grpSpPr>
            <a:xfrm>
              <a:off x="34920" y="1601640"/>
              <a:ext cx="5832360" cy="2006280"/>
              <a:chOff x="34920" y="1601640"/>
              <a:chExt cx="5832360" cy="2006280"/>
            </a:xfrm>
          </p:grpSpPr>
          <p:sp>
            <p:nvSpPr>
              <p:cNvPr id="351" name=""/>
              <p:cNvSpPr/>
              <p:nvPr/>
            </p:nvSpPr>
            <p:spPr>
              <a:xfrm>
                <a:off x="287280" y="1805040"/>
                <a:ext cx="1225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16 </a:t>
                </a: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вх/вы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440000" y="1805040"/>
                <a:ext cx="1225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вы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268360" y="1805040"/>
                <a:ext cx="169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вых опов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103640" y="2394000"/>
                <a:ext cx="576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9900"/>
                    </a:solidFill>
                    <a:latin typeface="Arial"/>
                  </a:rPr>
                  <a:t>3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816360" y="1805040"/>
                <a:ext cx="826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4 Ш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4920" y="2717640"/>
                <a:ext cx="936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9900"/>
                    </a:solidFill>
                    <a:latin typeface="Arial"/>
                  </a:rPr>
                  <a:t>RS-48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24000" y="2394000"/>
                <a:ext cx="576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99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655640" y="2394000"/>
                <a:ext cx="576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99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843280" y="2394000"/>
                <a:ext cx="576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9900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291280" y="2106720"/>
                <a:ext cx="576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9900"/>
                    </a:solidFill>
                    <a:latin typeface="Arial"/>
                  </a:rPr>
                  <a:t>3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61" name=""/>
              <p:cNvCxnSpPr/>
              <p:nvPr/>
            </p:nvCxnSpPr>
            <p:spPr>
              <a:xfrm flipH="1" rot="10800000">
                <a:off x="1076760" y="1961280"/>
                <a:ext cx="4358520" cy="1647000"/>
              </a:xfrm>
              <a:prstGeom prst="bentConnector4">
                <a:avLst>
                  <a:gd name="adj1" fmla="val -5245"/>
                  <a:gd name="adj2" fmla="val 76257"/>
                </a:avLst>
              </a:prstGeom>
              <a:ln w="25560">
                <a:solidFill>
                  <a:srgbClr val="008000"/>
                </a:solidFill>
                <a:miter/>
              </a:ln>
            </p:spPr>
          </p:cxnSp>
          <p:pic>
            <p:nvPicPr>
              <p:cNvPr id="36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74560" y="2189160"/>
                <a:ext cx="649440" cy="301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1692360" y="2185920"/>
                <a:ext cx="720720" cy="306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2801880" y="2147760"/>
                <a:ext cx="628560" cy="38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5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3833640" y="2124000"/>
                <a:ext cx="792360" cy="43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6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5041800" y="1601640"/>
                <a:ext cx="717480" cy="606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367" name="" descr=""/>
          <p:cNvPicPr/>
          <p:nvPr/>
        </p:nvPicPr>
        <p:blipFill>
          <a:blip r:embed="rId15"/>
          <a:stretch/>
        </p:blipFill>
        <p:spPr>
          <a:xfrm>
            <a:off x="971640" y="6159600"/>
            <a:ext cx="7743600" cy="438120"/>
          </a:xfrm>
          <a:prstGeom prst="rect">
            <a:avLst/>
          </a:prstGeom>
          <a:ln w="0">
            <a:noFill/>
          </a:ln>
        </p:spPr>
      </p:pic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ПКП «Радуга-240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6"/>
          <a:stretch/>
        </p:blipFill>
        <p:spPr>
          <a:xfrm>
            <a:off x="468360" y="5013360"/>
            <a:ext cx="792000" cy="56340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17"/>
          <a:stretch/>
        </p:blipFill>
        <p:spPr>
          <a:xfrm>
            <a:off x="5400720" y="5121360"/>
            <a:ext cx="792000" cy="56340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18"/>
          <a:stretch/>
        </p:blipFill>
        <p:spPr>
          <a:xfrm>
            <a:off x="2735280" y="5084640"/>
            <a:ext cx="717480" cy="60660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1835280" y="3392640"/>
            <a:ext cx="3058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еть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S-4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64 узла в се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435640" y="465300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24000" y="245736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843280" y="242100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767640" y="310500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216000" y="1622520"/>
            <a:ext cx="2098080" cy="979560"/>
            <a:chOff x="216000" y="1622520"/>
            <a:chExt cx="2098080" cy="979560"/>
          </a:xfrm>
        </p:grpSpPr>
        <p:pic>
          <p:nvPicPr>
            <p:cNvPr id="378" name="" descr=""/>
            <p:cNvPicPr/>
            <p:nvPr/>
          </p:nvPicPr>
          <p:blipFill>
            <a:blip r:embed="rId19"/>
            <a:stretch/>
          </p:blipFill>
          <p:spPr>
            <a:xfrm>
              <a:off x="270360" y="2465640"/>
              <a:ext cx="1936800" cy="10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"/>
            <p:cNvSpPr/>
            <p:nvPr/>
          </p:nvSpPr>
          <p:spPr>
            <a:xfrm>
              <a:off x="783360" y="2337840"/>
              <a:ext cx="1423080" cy="198000"/>
            </a:xfrm>
            <a:prstGeom prst="roundRect">
              <a:avLst>
                <a:gd name="adj" fmla="val 36074"/>
              </a:avLst>
            </a:prstGeom>
            <a:noFill/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0" name="" descr=""/>
            <p:cNvPicPr/>
            <p:nvPr/>
          </p:nvPicPr>
          <p:blipFill>
            <a:blip r:embed="rId20"/>
            <a:stretch/>
          </p:blipFill>
          <p:spPr>
            <a:xfrm>
              <a:off x="1369080" y="1851120"/>
              <a:ext cx="765000" cy="5886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381" name=""/>
            <p:cNvGraphicFramePr/>
            <p:nvPr/>
          </p:nvGraphicFramePr>
          <p:xfrm>
            <a:off x="1323000" y="2265480"/>
            <a:ext cx="117720" cy="11808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382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1323000" y="2265480"/>
                      <a:ext cx="117720" cy="11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383" name="" descr=""/>
            <p:cNvPicPr/>
            <p:nvPr/>
          </p:nvPicPr>
          <p:blipFill>
            <a:blip r:embed="rId23"/>
            <a:stretch/>
          </p:blipFill>
          <p:spPr>
            <a:xfrm>
              <a:off x="1918080" y="2265480"/>
              <a:ext cx="155520" cy="15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" name="" descr=""/>
            <p:cNvPicPr/>
            <p:nvPr/>
          </p:nvPicPr>
          <p:blipFill>
            <a:blip r:embed="rId24"/>
            <a:stretch/>
          </p:blipFill>
          <p:spPr>
            <a:xfrm>
              <a:off x="2134080" y="2347200"/>
              <a:ext cx="180000" cy="15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5" name="" descr=""/>
            <p:cNvPicPr/>
            <p:nvPr/>
          </p:nvPicPr>
          <p:blipFill>
            <a:blip r:embed="rId25"/>
            <a:stretch/>
          </p:blipFill>
          <p:spPr>
            <a:xfrm>
              <a:off x="1513080" y="2499840"/>
              <a:ext cx="153000" cy="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6" name="" descr=""/>
            <p:cNvPicPr/>
            <p:nvPr/>
          </p:nvPicPr>
          <p:blipFill>
            <a:blip r:embed="rId26"/>
            <a:stretch/>
          </p:blipFill>
          <p:spPr>
            <a:xfrm>
              <a:off x="1846440" y="2463840"/>
              <a:ext cx="171000" cy="13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" name="" descr=""/>
            <p:cNvPicPr/>
            <p:nvPr/>
          </p:nvPicPr>
          <p:blipFill>
            <a:blip r:embed="rId27"/>
            <a:stretch/>
          </p:blipFill>
          <p:spPr>
            <a:xfrm>
              <a:off x="1188720" y="2446200"/>
              <a:ext cx="189000" cy="13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828720" y="2050200"/>
              <a:ext cx="342000" cy="53640"/>
            </a:xfrm>
            <a:prstGeom prst="roundRect">
              <a:avLst>
                <a:gd name="adj" fmla="val 36074"/>
              </a:avLst>
            </a:prstGeom>
            <a:noFill/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28720" y="2140560"/>
              <a:ext cx="342000" cy="53640"/>
            </a:xfrm>
            <a:prstGeom prst="roundRect">
              <a:avLst>
                <a:gd name="adj" fmla="val 36074"/>
              </a:avLst>
            </a:prstGeom>
            <a:noFill/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28720" y="2230200"/>
              <a:ext cx="342000" cy="54000"/>
            </a:xfrm>
            <a:prstGeom prst="roundRect">
              <a:avLst>
                <a:gd name="adj" fmla="val 36074"/>
              </a:avLst>
            </a:prstGeom>
            <a:noFill/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1" name="" descr=""/>
            <p:cNvPicPr/>
            <p:nvPr/>
          </p:nvPicPr>
          <p:blipFill>
            <a:blip r:embed="rId28"/>
            <a:stretch/>
          </p:blipFill>
          <p:spPr>
            <a:xfrm>
              <a:off x="333000" y="1993680"/>
              <a:ext cx="558720" cy="39780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392" name=""/>
            <p:cNvCxnSpPr/>
            <p:nvPr/>
          </p:nvCxnSpPr>
          <p:spPr>
            <a:xfrm flipH="1" rot="10800000">
              <a:off x="340560" y="1711800"/>
              <a:ext cx="1090440" cy="412560"/>
            </a:xfrm>
            <a:prstGeom prst="bentConnector4">
              <a:avLst>
                <a:gd name="adj1" fmla="val -5217"/>
                <a:gd name="adj2" fmla="val 76244"/>
              </a:avLst>
            </a:prstGeom>
            <a:ln w="25560">
              <a:solidFill>
                <a:srgbClr val="008000"/>
              </a:solidFill>
              <a:miter/>
            </a:ln>
          </p:spPr>
        </p:cxnSp>
        <p:pic>
          <p:nvPicPr>
            <p:cNvPr id="393" name="" descr=""/>
            <p:cNvPicPr/>
            <p:nvPr/>
          </p:nvPicPr>
          <p:blipFill>
            <a:blip r:embed="rId29"/>
            <a:stretch/>
          </p:blipFill>
          <p:spPr>
            <a:xfrm>
              <a:off x="216000" y="1769400"/>
              <a:ext cx="162360" cy="7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30"/>
            <a:stretch/>
          </p:blipFill>
          <p:spPr>
            <a:xfrm>
              <a:off x="495360" y="1768680"/>
              <a:ext cx="180000" cy="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5" name="" descr=""/>
            <p:cNvPicPr/>
            <p:nvPr/>
          </p:nvPicPr>
          <p:blipFill>
            <a:blip r:embed="rId31"/>
            <a:stretch/>
          </p:blipFill>
          <p:spPr>
            <a:xfrm>
              <a:off x="772920" y="1758960"/>
              <a:ext cx="157320" cy="9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6" name="" descr=""/>
            <p:cNvPicPr/>
            <p:nvPr/>
          </p:nvPicPr>
          <p:blipFill>
            <a:blip r:embed="rId32"/>
            <a:stretch/>
          </p:blipFill>
          <p:spPr>
            <a:xfrm>
              <a:off x="1031040" y="1753200"/>
              <a:ext cx="198000" cy="10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" name="" descr=""/>
            <p:cNvPicPr/>
            <p:nvPr/>
          </p:nvPicPr>
          <p:blipFill>
            <a:blip r:embed="rId33"/>
            <a:stretch/>
          </p:blipFill>
          <p:spPr>
            <a:xfrm>
              <a:off x="1333440" y="1622520"/>
              <a:ext cx="179280" cy="151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8" name=""/>
          <p:cNvGrpSpPr/>
          <p:nvPr/>
        </p:nvGrpSpPr>
        <p:grpSpPr>
          <a:xfrm>
            <a:off x="2843280" y="1622520"/>
            <a:ext cx="2098080" cy="979560"/>
            <a:chOff x="2843280" y="1622520"/>
            <a:chExt cx="2098080" cy="979560"/>
          </a:xfrm>
        </p:grpSpPr>
        <p:pic>
          <p:nvPicPr>
            <p:cNvPr id="399" name="" descr=""/>
            <p:cNvPicPr/>
            <p:nvPr/>
          </p:nvPicPr>
          <p:blipFill>
            <a:blip r:embed="rId34"/>
            <a:stretch/>
          </p:blipFill>
          <p:spPr>
            <a:xfrm>
              <a:off x="2897640" y="2465640"/>
              <a:ext cx="1936800" cy="10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3410640" y="2337840"/>
              <a:ext cx="1423080" cy="198000"/>
            </a:xfrm>
            <a:prstGeom prst="roundRect">
              <a:avLst>
                <a:gd name="adj" fmla="val 36074"/>
              </a:avLst>
            </a:prstGeom>
            <a:noFill/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1" name="" descr=""/>
            <p:cNvPicPr/>
            <p:nvPr/>
          </p:nvPicPr>
          <p:blipFill>
            <a:blip r:embed="rId35"/>
            <a:stretch/>
          </p:blipFill>
          <p:spPr>
            <a:xfrm>
              <a:off x="3996360" y="1851120"/>
              <a:ext cx="765000" cy="5886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402" name=""/>
            <p:cNvGraphicFramePr/>
            <p:nvPr/>
          </p:nvGraphicFramePr>
          <p:xfrm>
            <a:off x="3950280" y="2265480"/>
            <a:ext cx="117720" cy="118080"/>
          </p:xfrm>
          <a:graphic>
            <a:graphicData uri="http://schemas.openxmlformats.org/presentationml/2006/ole">
              <p:oleObj r:id="rId36" spid="">
                <p:embed/>
                <p:pic>
                  <p:nvPicPr>
                    <p:cNvPr id="403" name="" descr=""/>
                    <p:cNvPicPr/>
                    <p:nvPr/>
                  </p:nvPicPr>
                  <p:blipFill>
                    <a:blip r:embed="rId37"/>
                    <a:stretch/>
                  </p:blipFill>
                  <p:spPr>
                    <a:xfrm>
                      <a:off x="3950280" y="2265480"/>
                      <a:ext cx="117720" cy="11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404" name="" descr=""/>
            <p:cNvPicPr/>
            <p:nvPr/>
          </p:nvPicPr>
          <p:blipFill>
            <a:blip r:embed="rId38"/>
            <a:stretch/>
          </p:blipFill>
          <p:spPr>
            <a:xfrm>
              <a:off x="4545360" y="2265480"/>
              <a:ext cx="155520" cy="15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" name="" descr=""/>
            <p:cNvPicPr/>
            <p:nvPr/>
          </p:nvPicPr>
          <p:blipFill>
            <a:blip r:embed="rId39"/>
            <a:stretch/>
          </p:blipFill>
          <p:spPr>
            <a:xfrm>
              <a:off x="4761360" y="2347200"/>
              <a:ext cx="180000" cy="15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6" name="" descr=""/>
            <p:cNvPicPr/>
            <p:nvPr/>
          </p:nvPicPr>
          <p:blipFill>
            <a:blip r:embed="rId40"/>
            <a:stretch/>
          </p:blipFill>
          <p:spPr>
            <a:xfrm>
              <a:off x="4140360" y="2499840"/>
              <a:ext cx="153000" cy="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" name="" descr=""/>
            <p:cNvPicPr/>
            <p:nvPr/>
          </p:nvPicPr>
          <p:blipFill>
            <a:blip r:embed="rId41"/>
            <a:stretch/>
          </p:blipFill>
          <p:spPr>
            <a:xfrm>
              <a:off x="4473720" y="2463840"/>
              <a:ext cx="171000" cy="13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" descr=""/>
            <p:cNvPicPr/>
            <p:nvPr/>
          </p:nvPicPr>
          <p:blipFill>
            <a:blip r:embed="rId42"/>
            <a:stretch/>
          </p:blipFill>
          <p:spPr>
            <a:xfrm>
              <a:off x="3816000" y="2446200"/>
              <a:ext cx="189000" cy="13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"/>
            <p:cNvSpPr/>
            <p:nvPr/>
          </p:nvSpPr>
          <p:spPr>
            <a:xfrm>
              <a:off x="3456000" y="2050200"/>
              <a:ext cx="342000" cy="53640"/>
            </a:xfrm>
            <a:prstGeom prst="roundRect">
              <a:avLst>
                <a:gd name="adj" fmla="val 36074"/>
              </a:avLst>
            </a:prstGeom>
            <a:noFill/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456000" y="2140560"/>
              <a:ext cx="342000" cy="53640"/>
            </a:xfrm>
            <a:prstGeom prst="roundRect">
              <a:avLst>
                <a:gd name="adj" fmla="val 36074"/>
              </a:avLst>
            </a:prstGeom>
            <a:noFill/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456000" y="2230200"/>
              <a:ext cx="342000" cy="54000"/>
            </a:xfrm>
            <a:prstGeom prst="roundRect">
              <a:avLst>
                <a:gd name="adj" fmla="val 36074"/>
              </a:avLst>
            </a:prstGeom>
            <a:noFill/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2" name="" descr=""/>
            <p:cNvPicPr/>
            <p:nvPr/>
          </p:nvPicPr>
          <p:blipFill>
            <a:blip r:embed="rId43"/>
            <a:stretch/>
          </p:blipFill>
          <p:spPr>
            <a:xfrm>
              <a:off x="2960280" y="1993680"/>
              <a:ext cx="558720" cy="39780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413" name=""/>
            <p:cNvCxnSpPr/>
            <p:nvPr/>
          </p:nvCxnSpPr>
          <p:spPr>
            <a:xfrm flipH="1" rot="10800000">
              <a:off x="2967840" y="1711800"/>
              <a:ext cx="1090440" cy="412560"/>
            </a:xfrm>
            <a:prstGeom prst="bentConnector4">
              <a:avLst>
                <a:gd name="adj1" fmla="val -5217"/>
                <a:gd name="adj2" fmla="val 76244"/>
              </a:avLst>
            </a:prstGeom>
            <a:ln w="25560">
              <a:solidFill>
                <a:srgbClr val="008000"/>
              </a:solidFill>
              <a:miter/>
            </a:ln>
          </p:spPr>
        </p:cxnSp>
        <p:pic>
          <p:nvPicPr>
            <p:cNvPr id="414" name="" descr=""/>
            <p:cNvPicPr/>
            <p:nvPr/>
          </p:nvPicPr>
          <p:blipFill>
            <a:blip r:embed="rId44"/>
            <a:stretch/>
          </p:blipFill>
          <p:spPr>
            <a:xfrm>
              <a:off x="2843280" y="1769400"/>
              <a:ext cx="162360" cy="7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5" name="" descr=""/>
            <p:cNvPicPr/>
            <p:nvPr/>
          </p:nvPicPr>
          <p:blipFill>
            <a:blip r:embed="rId45"/>
            <a:stretch/>
          </p:blipFill>
          <p:spPr>
            <a:xfrm>
              <a:off x="3122640" y="1768680"/>
              <a:ext cx="180000" cy="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6" name="" descr=""/>
            <p:cNvPicPr/>
            <p:nvPr/>
          </p:nvPicPr>
          <p:blipFill>
            <a:blip r:embed="rId46"/>
            <a:stretch/>
          </p:blipFill>
          <p:spPr>
            <a:xfrm>
              <a:off x="3400200" y="1758960"/>
              <a:ext cx="157320" cy="9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47"/>
            <a:stretch/>
          </p:blipFill>
          <p:spPr>
            <a:xfrm>
              <a:off x="3658320" y="1753200"/>
              <a:ext cx="198000" cy="10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" name="" descr=""/>
            <p:cNvPicPr/>
            <p:nvPr/>
          </p:nvPicPr>
          <p:blipFill>
            <a:blip r:embed="rId48"/>
            <a:stretch/>
          </p:blipFill>
          <p:spPr>
            <a:xfrm>
              <a:off x="3960720" y="1622520"/>
              <a:ext cx="179280" cy="151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9" name=""/>
          <p:cNvSpPr/>
          <p:nvPr/>
        </p:nvSpPr>
        <p:spPr>
          <a:xfrm>
            <a:off x="2808360" y="465300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76360" y="465300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71280" y="3463920"/>
            <a:ext cx="7417080" cy="649080"/>
            <a:chOff x="71280" y="3463920"/>
            <a:chExt cx="7417080" cy="649080"/>
          </a:xfrm>
        </p:grpSpPr>
        <p:grpSp>
          <p:nvGrpSpPr>
            <p:cNvPr id="422" name=""/>
            <p:cNvGrpSpPr/>
            <p:nvPr/>
          </p:nvGrpSpPr>
          <p:grpSpPr>
            <a:xfrm>
              <a:off x="71280" y="3465360"/>
              <a:ext cx="360360" cy="647640"/>
              <a:chOff x="71280" y="3465360"/>
              <a:chExt cx="360360" cy="647640"/>
            </a:xfrm>
          </p:grpSpPr>
          <p:sp>
            <p:nvSpPr>
              <p:cNvPr id="423" name=""/>
              <p:cNvSpPr/>
              <p:nvPr/>
            </p:nvSpPr>
            <p:spPr>
              <a:xfrm>
                <a:off x="73080" y="3465360"/>
                <a:ext cx="358560" cy="142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1280" y="3719520"/>
                <a:ext cx="358920" cy="142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1280" y="3970080"/>
                <a:ext cx="358920" cy="142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6" name=""/>
            <p:cNvGrpSpPr/>
            <p:nvPr/>
          </p:nvGrpSpPr>
          <p:grpSpPr>
            <a:xfrm>
              <a:off x="7128000" y="3463920"/>
              <a:ext cx="360360" cy="647640"/>
              <a:chOff x="7128000" y="3463920"/>
              <a:chExt cx="360360" cy="647640"/>
            </a:xfrm>
          </p:grpSpPr>
          <p:sp>
            <p:nvSpPr>
              <p:cNvPr id="427" name=""/>
              <p:cNvSpPr/>
              <p:nvPr/>
            </p:nvSpPr>
            <p:spPr>
              <a:xfrm>
                <a:off x="7129800" y="3463920"/>
                <a:ext cx="358560" cy="142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128000" y="3718080"/>
                <a:ext cx="358920" cy="142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128000" y="3968640"/>
                <a:ext cx="358920" cy="142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1.3876E-006 L 0.37032 -0.11864 E">
                                      <p:cBhvr>
                                        <p:cTn id="339" dur="2000" fill="hold"/>
                                        <p:tgtEl>
                                          <p:spTgt spid="3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1" dur="2000" fill="hold"/>
                                        <p:tgtEl>
                                          <p:spTgt spid="327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700"/>
                            </p:stCondLst>
                            <p:childTnLst>
                              <p:par>
                                <p:cTn id="353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34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4100"/>
                            </p:stCondLst>
                            <p:childTnLst>
                              <p:par>
                                <p:cTn id="363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4800"/>
                            </p:stCondLst>
                            <p:childTnLst>
                              <p:par>
                                <p:cTn id="368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500"/>
                            </p:stCondLst>
                            <p:childTnLst>
                              <p:par>
                                <p:cTn id="373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7054920" y="836640"/>
            <a:ext cx="2089080" cy="158436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Новинки пожарных систем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Аргус-Спект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1"/>
          <a:stretch/>
        </p:blipFill>
        <p:spPr>
          <a:xfrm>
            <a:off x="971640" y="6159600"/>
            <a:ext cx="7743600" cy="43812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/>
          <p:nvPr/>
        </p:nvSpPr>
        <p:spPr>
          <a:xfrm>
            <a:off x="3851280" y="2276640"/>
            <a:ext cx="5292720" cy="17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дресные пожарные извещат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фей (БР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боры управления серии «Стар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2"/>
          <a:stretch/>
        </p:blipFill>
        <p:spPr>
          <a:xfrm>
            <a:off x="719280" y="1628640"/>
            <a:ext cx="1150920" cy="108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5" name=""/>
          <p:cNvGraphicFramePr/>
          <p:nvPr/>
        </p:nvGraphicFramePr>
        <p:xfrm>
          <a:off x="863640" y="2457360"/>
          <a:ext cx="1501560" cy="154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3640" y="2457360"/>
                    <a:ext cx="1501560" cy="15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7" name=""/>
          <p:cNvGraphicFramePr/>
          <p:nvPr/>
        </p:nvGraphicFramePr>
        <p:xfrm>
          <a:off x="1619280" y="3573360"/>
          <a:ext cx="1154160" cy="16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19280" y="3573360"/>
                    <a:ext cx="1154160" cy="16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9" name="" descr=""/>
          <p:cNvPicPr/>
          <p:nvPr/>
        </p:nvPicPr>
        <p:blipFill>
          <a:blip r:embed="rId7"/>
          <a:stretch/>
        </p:blipFill>
        <p:spPr>
          <a:xfrm>
            <a:off x="2016000" y="4400640"/>
            <a:ext cx="847800" cy="11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Новые адресные извещате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1"/>
          <a:stretch/>
        </p:blipFill>
        <p:spPr>
          <a:xfrm>
            <a:off x="971640" y="6159600"/>
            <a:ext cx="7743600" cy="43812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4500720" y="2276640"/>
            <a:ext cx="4643280" cy="16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врора-Д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(ИП 212-7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9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врора-Т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(ИП 101-79-А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9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врора-ДТ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(ИП 212/101-79-А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2"/>
          <a:stretch/>
        </p:blipFill>
        <p:spPr>
          <a:xfrm>
            <a:off x="576360" y="1736640"/>
            <a:ext cx="3203640" cy="303048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3"/>
          <a:stretch/>
        </p:blipFill>
        <p:spPr>
          <a:xfrm>
            <a:off x="3203640" y="4329000"/>
            <a:ext cx="1504800" cy="184788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4932360" y="465948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овместимость с ППКП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дуга-2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дуга-4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42920" y="1449360"/>
            <a:ext cx="2089080" cy="158436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ПКП «Радуга-240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103640" y="2421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дресно-аналоговая система пожарной сигнал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71640" y="6159600"/>
            <a:ext cx="7743600" cy="438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03640" y="3645000"/>
            <a:ext cx="39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диоканальное расширение «Стрелец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®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16000" y="2097000"/>
            <a:ext cx="377964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истема речевого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повещения «Орфей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356000" y="2637000"/>
            <a:ext cx="3926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бновле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Блок Речев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пове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БР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9" name=""/>
          <p:cNvGraphicFramePr/>
          <p:nvPr/>
        </p:nvGraphicFramePr>
        <p:xfrm>
          <a:off x="576360" y="1881360"/>
          <a:ext cx="2870280" cy="295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6360" y="1881360"/>
                    <a:ext cx="2870280" cy="29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1" name=""/>
          <p:cNvSpPr/>
          <p:nvPr/>
        </p:nvSpPr>
        <p:spPr>
          <a:xfrm>
            <a:off x="2087640" y="4149720"/>
            <a:ext cx="2089080" cy="158436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3"/>
          <a:stretch/>
        </p:blipFill>
        <p:spPr>
          <a:xfrm>
            <a:off x="971640" y="6159600"/>
            <a:ext cx="77436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7054920" y="297000"/>
            <a:ext cx="2089080" cy="158436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истема речевого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повещения «Орфей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218200" y="2421000"/>
            <a:ext cx="392580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6 выходов / 16 В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дельное оповещение для шко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4+12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ходо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общения (32 се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инейный вход ГО и Ч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ход неисправ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1"/>
          <a:stretch/>
        </p:blipFill>
        <p:spPr>
          <a:xfrm>
            <a:off x="142920" y="2135160"/>
            <a:ext cx="4680000" cy="345456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/>
          <p:cNvPicPr/>
          <p:nvPr/>
        </p:nvPicPr>
        <p:blipFill>
          <a:blip r:embed="rId2"/>
          <a:stretch/>
        </p:blipFill>
        <p:spPr>
          <a:xfrm>
            <a:off x="971640" y="6159600"/>
            <a:ext cx="7743600" cy="43812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/>
          <p:nvPr/>
        </p:nvSpPr>
        <p:spPr>
          <a:xfrm>
            <a:off x="3851280" y="576900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бновленные приборы управления серии «Старт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971640" y="6159600"/>
            <a:ext cx="7743600" cy="43812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3995640" y="2421000"/>
            <a:ext cx="514836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Старт-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Старт-4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новленная схема контроля и управления пусковыми  выход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ыход расширения для подключения ПУ «Старт-8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2" name=""/>
          <p:cNvGraphicFramePr/>
          <p:nvPr/>
        </p:nvGraphicFramePr>
        <p:xfrm>
          <a:off x="395280" y="1773360"/>
          <a:ext cx="2540160" cy="370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773360"/>
                    <a:ext cx="2540160" cy="37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4" name="" descr=""/>
          <p:cNvPicPr/>
          <p:nvPr/>
        </p:nvPicPr>
        <p:blipFill>
          <a:blip r:embed="rId4"/>
          <a:stretch/>
        </p:blipFill>
        <p:spPr>
          <a:xfrm>
            <a:off x="1727280" y="3471840"/>
            <a:ext cx="1863720" cy="24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бновленные приборы управления серии «Старт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971640" y="6159600"/>
            <a:ext cx="7743600" cy="43812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3995640" y="2421000"/>
            <a:ext cx="51483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Старт-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нтроль выходов оповещения импульсами обратной поляр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ыход расширения для подключения следующего          ПУ «Старт-8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863640" y="1989000"/>
          <a:ext cx="2413080" cy="3441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63640" y="1989000"/>
                    <a:ext cx="2413080" cy="344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Спасибо за внимание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971640" y="6159600"/>
            <a:ext cx="77436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67840" y="260280"/>
            <a:ext cx="86058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многоэтажного з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238400" y="1413000"/>
            <a:ext cx="6667200" cy="4752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820800" y="7920"/>
            <a:ext cx="7850160" cy="6669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971640" y="6159600"/>
            <a:ext cx="7743600" cy="4381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843280" y="6237360"/>
            <a:ext cx="22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1871640" y="166536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7515360" y="3968640"/>
            <a:ext cx="728640" cy="7318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7524720" y="303228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7"/>
          <a:stretch/>
        </p:blipFill>
        <p:spPr>
          <a:xfrm>
            <a:off x="6840360" y="155736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5580000" y="47628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3851280" y="29700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0"/>
          <a:stretch/>
        </p:blipFill>
        <p:spPr>
          <a:xfrm>
            <a:off x="3024360" y="51264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1"/>
          <a:stretch/>
        </p:blipFill>
        <p:spPr>
          <a:xfrm>
            <a:off x="4751280" y="22536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2"/>
          <a:stretch/>
        </p:blipFill>
        <p:spPr>
          <a:xfrm>
            <a:off x="6300720" y="87300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3"/>
          <a:stretch/>
        </p:blipFill>
        <p:spPr>
          <a:xfrm>
            <a:off x="7308720" y="224172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4"/>
          <a:stretch/>
        </p:blipFill>
        <p:spPr>
          <a:xfrm>
            <a:off x="1150920" y="38242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5"/>
          <a:stretch/>
        </p:blipFill>
        <p:spPr>
          <a:xfrm>
            <a:off x="2303640" y="90792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6"/>
          <a:stretch/>
        </p:blipFill>
        <p:spPr>
          <a:xfrm>
            <a:off x="4133880" y="3292560"/>
            <a:ext cx="1009800" cy="12618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7"/>
          <a:stretch/>
        </p:blipFill>
        <p:spPr>
          <a:xfrm>
            <a:off x="826920" y="7920"/>
            <a:ext cx="7850520" cy="6669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8"/>
          <a:stretch/>
        </p:blipFill>
        <p:spPr>
          <a:xfrm>
            <a:off x="1878120" y="166536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9"/>
          <a:stretch/>
        </p:blipFill>
        <p:spPr>
          <a:xfrm>
            <a:off x="7521480" y="3968640"/>
            <a:ext cx="728640" cy="7318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0"/>
          <a:stretch/>
        </p:blipFill>
        <p:spPr>
          <a:xfrm>
            <a:off x="7531200" y="303228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1"/>
          <a:stretch/>
        </p:blipFill>
        <p:spPr>
          <a:xfrm>
            <a:off x="6846840" y="155736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2"/>
          <a:stretch/>
        </p:blipFill>
        <p:spPr>
          <a:xfrm>
            <a:off x="5586480" y="47628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3"/>
          <a:stretch/>
        </p:blipFill>
        <p:spPr>
          <a:xfrm>
            <a:off x="3857760" y="29700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4"/>
          <a:stretch/>
        </p:blipFill>
        <p:spPr>
          <a:xfrm>
            <a:off x="3030480" y="51264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5"/>
          <a:stretch/>
        </p:blipFill>
        <p:spPr>
          <a:xfrm>
            <a:off x="4757760" y="22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6"/>
          <a:stretch/>
        </p:blipFill>
        <p:spPr>
          <a:xfrm>
            <a:off x="6307200" y="87300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7"/>
          <a:stretch/>
        </p:blipFill>
        <p:spPr>
          <a:xfrm>
            <a:off x="7315200" y="224172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8"/>
          <a:stretch/>
        </p:blipFill>
        <p:spPr>
          <a:xfrm>
            <a:off x="1157400" y="38242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9"/>
          <a:stretch/>
        </p:blipFill>
        <p:spPr>
          <a:xfrm>
            <a:off x="2309760" y="90792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0"/>
          <a:stretch/>
        </p:blipFill>
        <p:spPr>
          <a:xfrm>
            <a:off x="4140360" y="3292560"/>
            <a:ext cx="1009440" cy="12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3.80204E-006 L -0.27952 0.28353 E">
                                      <p:cBhvr>
                                        <p:cTn id="44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4.93987E-006 L -0.16927 0.3462 E">
                                      <p:cBhvr>
                                        <p:cTn id="46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16559E-006 L -0.03142 0.42484 E">
                                      <p:cBhvr>
                                        <p:cTn id="48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2.6087E-006 L 0.04722 0.40911 E">
                                      <p:cBhvr>
                                        <p:cTn id="50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4.22757E-006 L 0.12222 0.34112 E">
                                      <p:cBhvr>
                                        <p:cTn id="52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46809E-006 L 0.11823 0.50346 E">
                                      <p:cBhvr>
                                        <p:cTn id="54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2.56244E-006 L 0.3033 0.24653 E">
                                      <p:cBhvr>
                                        <p:cTn id="56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4.92137E-006 L 0.3033 0.34112 E">
                                      <p:cBhvr>
                                        <p:cTn id="58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98612E-006 L 0.33472 0.03145 E">
                                      <p:cBhvr>
                                        <p:cTn id="60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4.90287E-007 L 0.38212 0.14177 E">
                                      <p:cBhvr>
                                        <p:cTn id="62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1.48011E-007 L -0.36163 -0.25254 E">
                                      <p:cBhvr>
                                        <p:cTn id="64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7.21554E-007 L 0.42135 -0.09968 E">
                                      <p:cBhvr>
                                        <p:cTn id="66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1.60962E-006 L 0.08334 0.03307 E">
                                      <p:cBhvr>
                                        <p:cTn id="68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3.80204E-006 L -0.53941 -0.04163 E">
                                      <p:cBhvr>
                                        <p:cTn id="104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4.93987E-006 L -0.61822 0.07354 E">
                                      <p:cBhvr>
                                        <p:cTn id="106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16559E-006 L -0.37014 0.04718 E">
                                      <p:cBhvr>
                                        <p:cTn id="108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2.6087E-006 L -0.40555 0.14686 E">
                                      <p:cBhvr>
                                        <p:cTn id="110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4.22757E-006 L -0.42916 0.22571 E">
                                      <p:cBhvr>
                                        <p:cTn id="112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46809E-006 L -0.25191 0.48774 E">
                                      <p:cBhvr>
                                        <p:cTn id="114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2.56244E-006 L -0.2401 0.49306 E">
                                      <p:cBhvr>
                                        <p:cTn id="116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4.92137E-006 L 0.05521 0.62951 E">
                                      <p:cBhvr>
                                        <p:cTn id="118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98612E-006 L -0.01563 0.41443 E">
                                      <p:cBhvr>
                                        <p:cTn id="120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4.90287E-007 L 0.0316 0.54047 E">
                                      <p:cBhvr>
                                        <p:cTn id="122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1.48011E-007 L -0.36163 0.13043 E">
                                      <p:cBhvr>
                                        <p:cTn id="124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7.21554E-007 L 0.24028 -0.08904 E">
                                      <p:cBhvr>
                                        <p:cTn id="126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1.60962E-006 L -0.11354 0.02775 E">
                                      <p:cBhvr>
                                        <p:cTn id="128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468360" y="1878120"/>
            <a:ext cx="8388360" cy="576000"/>
            <a:chOff x="468360" y="1878120"/>
            <a:chExt cx="8388360" cy="576000"/>
          </a:xfrm>
        </p:grpSpPr>
        <p:sp>
          <p:nvSpPr>
            <p:cNvPr id="90" name=""/>
            <p:cNvSpPr/>
            <p:nvPr/>
          </p:nvSpPr>
          <p:spPr>
            <a:xfrm>
              <a:off x="468360" y="1878120"/>
              <a:ext cx="6734160" cy="57600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24720" y="1989000"/>
              <a:ext cx="13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Этаж 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466560" y="3895560"/>
            <a:ext cx="8390160" cy="576360"/>
            <a:chOff x="466560" y="3895560"/>
            <a:chExt cx="8390160" cy="576360"/>
          </a:xfrm>
        </p:grpSpPr>
        <p:sp>
          <p:nvSpPr>
            <p:cNvPr id="93" name=""/>
            <p:cNvSpPr/>
            <p:nvPr/>
          </p:nvSpPr>
          <p:spPr>
            <a:xfrm>
              <a:off x="466560" y="3895560"/>
              <a:ext cx="6734520" cy="57636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524720" y="4005360"/>
              <a:ext cx="13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Этаж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466560" y="2455920"/>
            <a:ext cx="8390160" cy="576360"/>
            <a:chOff x="466560" y="2455920"/>
            <a:chExt cx="8390160" cy="576360"/>
          </a:xfrm>
        </p:grpSpPr>
        <p:sp>
          <p:nvSpPr>
            <p:cNvPr id="96" name=""/>
            <p:cNvSpPr/>
            <p:nvPr/>
          </p:nvSpPr>
          <p:spPr>
            <a:xfrm>
              <a:off x="466560" y="2455920"/>
              <a:ext cx="6734520" cy="57636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24720" y="2565360"/>
              <a:ext cx="13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Этаж 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466560" y="4471920"/>
            <a:ext cx="8390160" cy="576360"/>
            <a:chOff x="466560" y="4471920"/>
            <a:chExt cx="8390160" cy="576360"/>
          </a:xfrm>
        </p:grpSpPr>
        <p:sp>
          <p:nvSpPr>
            <p:cNvPr id="99" name=""/>
            <p:cNvSpPr/>
            <p:nvPr/>
          </p:nvSpPr>
          <p:spPr>
            <a:xfrm>
              <a:off x="466560" y="4471920"/>
              <a:ext cx="6734520" cy="57636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524720" y="4581360"/>
              <a:ext cx="13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Этаж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67840" y="260280"/>
            <a:ext cx="86058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многоэтажного з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71640" y="6159600"/>
            <a:ext cx="7743600" cy="4381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468360" y="4491000"/>
            <a:ext cx="2158920" cy="539640"/>
            <a:chOff x="468360" y="4491000"/>
            <a:chExt cx="2158920" cy="539640"/>
          </a:xfrm>
        </p:grpSpPr>
        <p:pic>
          <p:nvPicPr>
            <p:cNvPr id="104" name="" descr=""/>
            <p:cNvPicPr/>
            <p:nvPr/>
          </p:nvPicPr>
          <p:blipFill>
            <a:blip r:embed="rId2"/>
            <a:stretch/>
          </p:blipFill>
          <p:spPr>
            <a:xfrm>
              <a:off x="468360" y="4491000"/>
              <a:ext cx="53964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3"/>
            <a:stretch/>
          </p:blipFill>
          <p:spPr>
            <a:xfrm>
              <a:off x="1008000" y="4491000"/>
              <a:ext cx="53964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4"/>
            <a:stretch/>
          </p:blipFill>
          <p:spPr>
            <a:xfrm>
              <a:off x="1547640" y="4491000"/>
              <a:ext cx="54000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5"/>
            <a:stretch/>
          </p:blipFill>
          <p:spPr>
            <a:xfrm>
              <a:off x="2087640" y="4491000"/>
              <a:ext cx="539640" cy="539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" name=""/>
          <p:cNvGrpSpPr/>
          <p:nvPr/>
        </p:nvGrpSpPr>
        <p:grpSpPr>
          <a:xfrm>
            <a:off x="5038560" y="4491000"/>
            <a:ext cx="2160720" cy="539640"/>
            <a:chOff x="5038560" y="4491000"/>
            <a:chExt cx="2160720" cy="539640"/>
          </a:xfrm>
        </p:grpSpPr>
        <p:pic>
          <p:nvPicPr>
            <p:cNvPr id="109" name="" descr=""/>
            <p:cNvPicPr/>
            <p:nvPr/>
          </p:nvPicPr>
          <p:blipFill>
            <a:blip r:embed="rId6"/>
            <a:stretch/>
          </p:blipFill>
          <p:spPr>
            <a:xfrm>
              <a:off x="5038560" y="4491000"/>
              <a:ext cx="54000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/>
            <p:cNvPicPr/>
            <p:nvPr/>
          </p:nvPicPr>
          <p:blipFill>
            <a:blip r:embed="rId7"/>
            <a:stretch/>
          </p:blipFill>
          <p:spPr>
            <a:xfrm>
              <a:off x="5578560" y="4491000"/>
              <a:ext cx="53964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8"/>
            <a:stretch/>
          </p:blipFill>
          <p:spPr>
            <a:xfrm>
              <a:off x="6118200" y="4491000"/>
              <a:ext cx="53964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9"/>
            <a:stretch/>
          </p:blipFill>
          <p:spPr>
            <a:xfrm>
              <a:off x="6659640" y="4491000"/>
              <a:ext cx="539640" cy="539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3" name="" descr=""/>
          <p:cNvPicPr/>
          <p:nvPr/>
        </p:nvPicPr>
        <p:blipFill>
          <a:blip r:embed="rId10"/>
          <a:stretch/>
        </p:blipFill>
        <p:spPr>
          <a:xfrm>
            <a:off x="3348000" y="4502160"/>
            <a:ext cx="514440" cy="515880"/>
          </a:xfrm>
          <a:prstGeom prst="rect">
            <a:avLst/>
          </a:prstGeom>
          <a:ln w="0">
            <a:noFill/>
          </a:ln>
        </p:spPr>
      </p:pic>
      <p:grpSp>
        <p:nvGrpSpPr>
          <p:cNvPr id="114" name=""/>
          <p:cNvGrpSpPr/>
          <p:nvPr/>
        </p:nvGrpSpPr>
        <p:grpSpPr>
          <a:xfrm>
            <a:off x="468360" y="3914640"/>
            <a:ext cx="2158920" cy="540000"/>
            <a:chOff x="468360" y="3914640"/>
            <a:chExt cx="2158920" cy="540000"/>
          </a:xfrm>
        </p:grpSpPr>
        <p:pic>
          <p:nvPicPr>
            <p:cNvPr id="115" name="" descr=""/>
            <p:cNvPicPr/>
            <p:nvPr/>
          </p:nvPicPr>
          <p:blipFill>
            <a:blip r:embed="rId11"/>
            <a:stretch/>
          </p:blipFill>
          <p:spPr>
            <a:xfrm>
              <a:off x="468360" y="3914640"/>
              <a:ext cx="539640" cy="5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12"/>
            <a:stretch/>
          </p:blipFill>
          <p:spPr>
            <a:xfrm>
              <a:off x="1008000" y="3914640"/>
              <a:ext cx="539640" cy="5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13"/>
            <a:stretch/>
          </p:blipFill>
          <p:spPr>
            <a:xfrm>
              <a:off x="1547640" y="3914640"/>
              <a:ext cx="540000" cy="5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14"/>
            <a:stretch/>
          </p:blipFill>
          <p:spPr>
            <a:xfrm>
              <a:off x="2087640" y="3914640"/>
              <a:ext cx="539640" cy="540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" name=""/>
          <p:cNvGrpSpPr/>
          <p:nvPr/>
        </p:nvGrpSpPr>
        <p:grpSpPr>
          <a:xfrm>
            <a:off x="5038560" y="3914640"/>
            <a:ext cx="2160720" cy="540000"/>
            <a:chOff x="5038560" y="3914640"/>
            <a:chExt cx="2160720" cy="540000"/>
          </a:xfrm>
        </p:grpSpPr>
        <p:pic>
          <p:nvPicPr>
            <p:cNvPr id="120" name="" descr=""/>
            <p:cNvPicPr/>
            <p:nvPr/>
          </p:nvPicPr>
          <p:blipFill>
            <a:blip r:embed="rId15"/>
            <a:stretch/>
          </p:blipFill>
          <p:spPr>
            <a:xfrm>
              <a:off x="5038560" y="3914640"/>
              <a:ext cx="540000" cy="5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16"/>
            <a:stretch/>
          </p:blipFill>
          <p:spPr>
            <a:xfrm>
              <a:off x="5578560" y="3914640"/>
              <a:ext cx="539640" cy="5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" descr=""/>
            <p:cNvPicPr/>
            <p:nvPr/>
          </p:nvPicPr>
          <p:blipFill>
            <a:blip r:embed="rId17"/>
            <a:stretch/>
          </p:blipFill>
          <p:spPr>
            <a:xfrm>
              <a:off x="6118200" y="3914640"/>
              <a:ext cx="539640" cy="5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18"/>
            <a:stretch/>
          </p:blipFill>
          <p:spPr>
            <a:xfrm>
              <a:off x="6659640" y="3914640"/>
              <a:ext cx="539640" cy="540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4" name="" descr=""/>
          <p:cNvPicPr/>
          <p:nvPr/>
        </p:nvPicPr>
        <p:blipFill>
          <a:blip r:embed="rId19"/>
          <a:stretch/>
        </p:blipFill>
        <p:spPr>
          <a:xfrm>
            <a:off x="3348000" y="3925800"/>
            <a:ext cx="514440" cy="515880"/>
          </a:xfrm>
          <a:prstGeom prst="rect">
            <a:avLst/>
          </a:prstGeom>
          <a:ln w="0">
            <a:noFill/>
          </a:ln>
        </p:spPr>
      </p:pic>
      <p:grpSp>
        <p:nvGrpSpPr>
          <p:cNvPr id="125" name=""/>
          <p:cNvGrpSpPr/>
          <p:nvPr/>
        </p:nvGrpSpPr>
        <p:grpSpPr>
          <a:xfrm>
            <a:off x="468360" y="1897200"/>
            <a:ext cx="2158920" cy="539640"/>
            <a:chOff x="468360" y="1897200"/>
            <a:chExt cx="2158920" cy="539640"/>
          </a:xfrm>
        </p:grpSpPr>
        <p:pic>
          <p:nvPicPr>
            <p:cNvPr id="126" name="" descr=""/>
            <p:cNvPicPr/>
            <p:nvPr/>
          </p:nvPicPr>
          <p:blipFill>
            <a:blip r:embed="rId20"/>
            <a:stretch/>
          </p:blipFill>
          <p:spPr>
            <a:xfrm>
              <a:off x="468360" y="1897200"/>
              <a:ext cx="53964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21"/>
            <a:stretch/>
          </p:blipFill>
          <p:spPr>
            <a:xfrm>
              <a:off x="1008000" y="1897200"/>
              <a:ext cx="53964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" descr=""/>
            <p:cNvPicPr/>
            <p:nvPr/>
          </p:nvPicPr>
          <p:blipFill>
            <a:blip r:embed="rId22"/>
            <a:stretch/>
          </p:blipFill>
          <p:spPr>
            <a:xfrm>
              <a:off x="1547640" y="1897200"/>
              <a:ext cx="54000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" descr=""/>
            <p:cNvPicPr/>
            <p:nvPr/>
          </p:nvPicPr>
          <p:blipFill>
            <a:blip r:embed="rId23"/>
            <a:stretch/>
          </p:blipFill>
          <p:spPr>
            <a:xfrm>
              <a:off x="2087640" y="1897200"/>
              <a:ext cx="539640" cy="539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0" name=""/>
          <p:cNvGrpSpPr/>
          <p:nvPr/>
        </p:nvGrpSpPr>
        <p:grpSpPr>
          <a:xfrm>
            <a:off x="5040360" y="1897200"/>
            <a:ext cx="2160720" cy="539640"/>
            <a:chOff x="5040360" y="1897200"/>
            <a:chExt cx="2160720" cy="539640"/>
          </a:xfrm>
        </p:grpSpPr>
        <p:pic>
          <p:nvPicPr>
            <p:cNvPr id="131" name="" descr=""/>
            <p:cNvPicPr/>
            <p:nvPr/>
          </p:nvPicPr>
          <p:blipFill>
            <a:blip r:embed="rId24"/>
            <a:stretch/>
          </p:blipFill>
          <p:spPr>
            <a:xfrm>
              <a:off x="5040360" y="1897200"/>
              <a:ext cx="53964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25"/>
            <a:stretch/>
          </p:blipFill>
          <p:spPr>
            <a:xfrm>
              <a:off x="5580000" y="1897200"/>
              <a:ext cx="53964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26"/>
            <a:stretch/>
          </p:blipFill>
          <p:spPr>
            <a:xfrm>
              <a:off x="6119640" y="1897200"/>
              <a:ext cx="54000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" descr=""/>
            <p:cNvPicPr/>
            <p:nvPr/>
          </p:nvPicPr>
          <p:blipFill>
            <a:blip r:embed="rId27"/>
            <a:stretch/>
          </p:blipFill>
          <p:spPr>
            <a:xfrm>
              <a:off x="6661080" y="1897200"/>
              <a:ext cx="540000" cy="539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5" name="" descr=""/>
          <p:cNvPicPr/>
          <p:nvPr/>
        </p:nvPicPr>
        <p:blipFill>
          <a:blip r:embed="rId28"/>
          <a:stretch/>
        </p:blipFill>
        <p:spPr>
          <a:xfrm>
            <a:off x="3349800" y="1908000"/>
            <a:ext cx="514080" cy="516240"/>
          </a:xfrm>
          <a:prstGeom prst="rect">
            <a:avLst/>
          </a:prstGeom>
          <a:ln w="0">
            <a:noFill/>
          </a:ln>
        </p:spPr>
      </p:pic>
      <p:grpSp>
        <p:nvGrpSpPr>
          <p:cNvPr id="136" name=""/>
          <p:cNvGrpSpPr/>
          <p:nvPr/>
        </p:nvGrpSpPr>
        <p:grpSpPr>
          <a:xfrm>
            <a:off x="468360" y="2475000"/>
            <a:ext cx="2158920" cy="539640"/>
            <a:chOff x="468360" y="2475000"/>
            <a:chExt cx="2158920" cy="539640"/>
          </a:xfrm>
        </p:grpSpPr>
        <p:pic>
          <p:nvPicPr>
            <p:cNvPr id="137" name="" descr=""/>
            <p:cNvPicPr/>
            <p:nvPr/>
          </p:nvPicPr>
          <p:blipFill>
            <a:blip r:embed="rId29"/>
            <a:stretch/>
          </p:blipFill>
          <p:spPr>
            <a:xfrm>
              <a:off x="468360" y="2475000"/>
              <a:ext cx="53964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30"/>
            <a:stretch/>
          </p:blipFill>
          <p:spPr>
            <a:xfrm>
              <a:off x="1008000" y="2475000"/>
              <a:ext cx="53964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" descr=""/>
            <p:cNvPicPr/>
            <p:nvPr/>
          </p:nvPicPr>
          <p:blipFill>
            <a:blip r:embed="rId31"/>
            <a:stretch/>
          </p:blipFill>
          <p:spPr>
            <a:xfrm>
              <a:off x="1547640" y="2475000"/>
              <a:ext cx="54000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/>
            <p:cNvPicPr/>
            <p:nvPr/>
          </p:nvPicPr>
          <p:blipFill>
            <a:blip r:embed="rId32"/>
            <a:stretch/>
          </p:blipFill>
          <p:spPr>
            <a:xfrm>
              <a:off x="2087640" y="2475000"/>
              <a:ext cx="539640" cy="539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1" name=""/>
          <p:cNvGrpSpPr/>
          <p:nvPr/>
        </p:nvGrpSpPr>
        <p:grpSpPr>
          <a:xfrm>
            <a:off x="5038560" y="2475000"/>
            <a:ext cx="2160720" cy="539640"/>
            <a:chOff x="5038560" y="2475000"/>
            <a:chExt cx="2160720" cy="539640"/>
          </a:xfrm>
        </p:grpSpPr>
        <p:pic>
          <p:nvPicPr>
            <p:cNvPr id="142" name="" descr=""/>
            <p:cNvPicPr/>
            <p:nvPr/>
          </p:nvPicPr>
          <p:blipFill>
            <a:blip r:embed="rId33"/>
            <a:stretch/>
          </p:blipFill>
          <p:spPr>
            <a:xfrm>
              <a:off x="5038560" y="2475000"/>
              <a:ext cx="54000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34"/>
            <a:stretch/>
          </p:blipFill>
          <p:spPr>
            <a:xfrm>
              <a:off x="5578560" y="2475000"/>
              <a:ext cx="53964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" descr=""/>
            <p:cNvPicPr/>
            <p:nvPr/>
          </p:nvPicPr>
          <p:blipFill>
            <a:blip r:embed="rId35"/>
            <a:stretch/>
          </p:blipFill>
          <p:spPr>
            <a:xfrm>
              <a:off x="6118200" y="2475000"/>
              <a:ext cx="53964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36"/>
            <a:stretch/>
          </p:blipFill>
          <p:spPr>
            <a:xfrm>
              <a:off x="6659640" y="2475000"/>
              <a:ext cx="539640" cy="539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6" name="" descr=""/>
          <p:cNvPicPr/>
          <p:nvPr/>
        </p:nvPicPr>
        <p:blipFill>
          <a:blip r:embed="rId37"/>
          <a:stretch/>
        </p:blipFill>
        <p:spPr>
          <a:xfrm>
            <a:off x="3348000" y="2486160"/>
            <a:ext cx="514440" cy="5158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 rot="5400000">
            <a:off x="3474000" y="3229560"/>
            <a:ext cx="86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8"/>
          <a:stretch/>
        </p:blipFill>
        <p:spPr>
          <a:xfrm>
            <a:off x="3905280" y="1916280"/>
            <a:ext cx="539640" cy="5396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9"/>
          <a:stretch/>
        </p:blipFill>
        <p:spPr>
          <a:xfrm>
            <a:off x="3905280" y="2492280"/>
            <a:ext cx="539640" cy="540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0"/>
          <a:stretch/>
        </p:blipFill>
        <p:spPr>
          <a:xfrm>
            <a:off x="3906720" y="3933720"/>
            <a:ext cx="540000" cy="5400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1"/>
          <a:stretch/>
        </p:blipFill>
        <p:spPr>
          <a:xfrm>
            <a:off x="3906720" y="4508640"/>
            <a:ext cx="540000" cy="539640"/>
          </a:xfrm>
          <a:prstGeom prst="rect">
            <a:avLst/>
          </a:prstGeom>
          <a:ln w="0">
            <a:noFill/>
          </a:ln>
        </p:spPr>
      </p:pic>
      <p:grpSp>
        <p:nvGrpSpPr>
          <p:cNvPr id="152" name=""/>
          <p:cNvGrpSpPr/>
          <p:nvPr/>
        </p:nvGrpSpPr>
        <p:grpSpPr>
          <a:xfrm>
            <a:off x="2376360" y="1773360"/>
            <a:ext cx="1008360" cy="4070160"/>
            <a:chOff x="2376360" y="1773360"/>
            <a:chExt cx="1008360" cy="4070160"/>
          </a:xfrm>
        </p:grpSpPr>
        <p:sp>
          <p:nvSpPr>
            <p:cNvPr id="153" name=""/>
            <p:cNvSpPr/>
            <p:nvPr/>
          </p:nvSpPr>
          <p:spPr>
            <a:xfrm>
              <a:off x="2448000" y="5805360"/>
              <a:ext cx="755640" cy="0"/>
            </a:xfrm>
            <a:prstGeom prst="line">
              <a:avLst/>
            </a:prstGeom>
            <a:ln w="316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2376360" y="1773360"/>
              <a:ext cx="1008360" cy="4070160"/>
              <a:chOff x="2376360" y="1773360"/>
              <a:chExt cx="1008360" cy="4070160"/>
            </a:xfrm>
          </p:grpSpPr>
          <p:grpSp>
            <p:nvGrpSpPr>
              <p:cNvPr id="155" name=""/>
              <p:cNvGrpSpPr/>
              <p:nvPr/>
            </p:nvGrpSpPr>
            <p:grpSpPr>
              <a:xfrm>
                <a:off x="2376360" y="1773360"/>
                <a:ext cx="1008360" cy="4070160"/>
                <a:chOff x="2376360" y="1773360"/>
                <a:chExt cx="1008360" cy="407016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2376360" y="5516640"/>
                  <a:ext cx="611280" cy="0"/>
                </a:xfrm>
                <a:prstGeom prst="line">
                  <a:avLst/>
                </a:prstGeom>
                <a:ln w="3168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 flipV="1">
                  <a:off x="2987640" y="1773360"/>
                  <a:ext cx="0" cy="3743280"/>
                </a:xfrm>
                <a:prstGeom prst="line">
                  <a:avLst/>
                </a:prstGeom>
                <a:ln w="3168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2484360" y="5475240"/>
                  <a:ext cx="900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ff3300"/>
                      </a:solidFill>
                      <a:latin typeface="Arial"/>
                    </a:rPr>
                    <a:t>СЛ</a:t>
                  </a:r>
                  <a:r>
                    <a:rPr b="0" lang="en-US" sz="1800" spc="-1" strike="noStrike">
                      <a:solidFill>
                        <a:srgbClr val="ff33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"/>
              <p:cNvSpPr/>
              <p:nvPr/>
            </p:nvSpPr>
            <p:spPr>
              <a:xfrm flipV="1">
                <a:off x="3203640" y="1773360"/>
                <a:ext cx="0" cy="4032000"/>
              </a:xfrm>
              <a:prstGeom prst="line">
                <a:avLst/>
              </a:prstGeom>
              <a:ln w="316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987640" y="1773360"/>
                <a:ext cx="216000" cy="0"/>
              </a:xfrm>
              <a:prstGeom prst="line">
                <a:avLst/>
              </a:prstGeom>
              <a:ln w="316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1" name="" descr=""/>
          <p:cNvPicPr/>
          <p:nvPr/>
        </p:nvPicPr>
        <p:blipFill>
          <a:blip r:embed="rId42"/>
          <a:stretch/>
        </p:blipFill>
        <p:spPr>
          <a:xfrm>
            <a:off x="2592360" y="4184640"/>
            <a:ext cx="720720" cy="9018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3"/>
          <a:stretch/>
        </p:blipFill>
        <p:spPr>
          <a:xfrm>
            <a:off x="2592360" y="3608280"/>
            <a:ext cx="720720" cy="9018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4"/>
          <a:stretch/>
        </p:blipFill>
        <p:spPr>
          <a:xfrm>
            <a:off x="2592360" y="2168640"/>
            <a:ext cx="720720" cy="9014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5"/>
          <a:stretch/>
        </p:blipFill>
        <p:spPr>
          <a:xfrm>
            <a:off x="2593800" y="1590840"/>
            <a:ext cx="721080" cy="901440"/>
          </a:xfrm>
          <a:prstGeom prst="rect">
            <a:avLst/>
          </a:prstGeom>
          <a:ln w="0">
            <a:noFill/>
          </a:ln>
        </p:spPr>
      </p:pic>
      <p:grpSp>
        <p:nvGrpSpPr>
          <p:cNvPr id="165" name=""/>
          <p:cNvGrpSpPr/>
          <p:nvPr/>
        </p:nvGrpSpPr>
        <p:grpSpPr>
          <a:xfrm>
            <a:off x="2376360" y="1773360"/>
            <a:ext cx="2519640" cy="4464000"/>
            <a:chOff x="2376360" y="1773360"/>
            <a:chExt cx="2519640" cy="4464000"/>
          </a:xfrm>
        </p:grpSpPr>
        <p:grpSp>
          <p:nvGrpSpPr>
            <p:cNvPr id="166" name=""/>
            <p:cNvGrpSpPr/>
            <p:nvPr/>
          </p:nvGrpSpPr>
          <p:grpSpPr>
            <a:xfrm>
              <a:off x="2519280" y="1773360"/>
              <a:ext cx="2197080" cy="4321080"/>
              <a:chOff x="2519280" y="1773360"/>
              <a:chExt cx="2197080" cy="4321080"/>
            </a:xfrm>
          </p:grpSpPr>
          <p:sp>
            <p:nvSpPr>
              <p:cNvPr id="167" name=""/>
              <p:cNvSpPr/>
              <p:nvPr/>
            </p:nvSpPr>
            <p:spPr>
              <a:xfrm flipV="1">
                <a:off x="4714920" y="1773360"/>
                <a:ext cx="0" cy="4284720"/>
              </a:xfrm>
              <a:prstGeom prst="line">
                <a:avLst/>
              </a:prstGeom>
              <a:ln w="316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519280" y="6058080"/>
                <a:ext cx="2197080" cy="0"/>
              </a:xfrm>
              <a:prstGeom prst="line">
                <a:avLst/>
              </a:prstGeom>
              <a:ln w="316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635280" y="5726160"/>
                <a:ext cx="90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"/>
                  </a:rPr>
                  <a:t>СЛ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2376360" y="1773360"/>
              <a:ext cx="2519640" cy="4464000"/>
              <a:chOff x="2376360" y="1773360"/>
              <a:chExt cx="2519640" cy="4464000"/>
            </a:xfrm>
          </p:grpSpPr>
          <p:sp>
            <p:nvSpPr>
              <p:cNvPr id="171" name=""/>
              <p:cNvSpPr/>
              <p:nvPr/>
            </p:nvSpPr>
            <p:spPr>
              <a:xfrm flipV="1">
                <a:off x="4894200" y="1773360"/>
                <a:ext cx="0" cy="4464000"/>
              </a:xfrm>
              <a:prstGeom prst="line">
                <a:avLst/>
              </a:prstGeom>
              <a:ln w="316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376360" y="6237360"/>
                <a:ext cx="2519640" cy="0"/>
              </a:xfrm>
              <a:prstGeom prst="line">
                <a:avLst/>
              </a:prstGeom>
              <a:ln w="316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716360" y="1773360"/>
                <a:ext cx="179640" cy="0"/>
              </a:xfrm>
              <a:prstGeom prst="line">
                <a:avLst/>
              </a:prstGeom>
              <a:ln w="316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74" name="" descr=""/>
          <p:cNvPicPr/>
          <p:nvPr/>
        </p:nvPicPr>
        <p:blipFill>
          <a:blip r:embed="rId46"/>
          <a:stretch/>
        </p:blipFill>
        <p:spPr>
          <a:xfrm>
            <a:off x="468360" y="5157720"/>
            <a:ext cx="2089080" cy="14875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7"/>
          <a:stretch/>
        </p:blipFill>
        <p:spPr>
          <a:xfrm>
            <a:off x="4317840" y="4184640"/>
            <a:ext cx="720720" cy="9018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48"/>
          <a:stretch/>
        </p:blipFill>
        <p:spPr>
          <a:xfrm>
            <a:off x="4317840" y="3608280"/>
            <a:ext cx="720720" cy="9018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9"/>
          <a:stretch/>
        </p:blipFill>
        <p:spPr>
          <a:xfrm>
            <a:off x="4317840" y="2168640"/>
            <a:ext cx="720720" cy="9014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50"/>
          <a:stretch/>
        </p:blipFill>
        <p:spPr>
          <a:xfrm>
            <a:off x="4319640" y="1590840"/>
            <a:ext cx="720720" cy="90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7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4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1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8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5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42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49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60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630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68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68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73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3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8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83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88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93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980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30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8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13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18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23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28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Цифровой протокол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gusDIGI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971640" y="6165720"/>
            <a:ext cx="7746840" cy="439920"/>
            <a:chOff x="971640" y="6165720"/>
            <a:chExt cx="7746840" cy="439920"/>
          </a:xfrm>
        </p:grpSpPr>
        <p:pic>
          <p:nvPicPr>
            <p:cNvPr id="181" name="" descr=""/>
            <p:cNvPicPr/>
            <p:nvPr/>
          </p:nvPicPr>
          <p:blipFill>
            <a:blip r:embed="rId1"/>
            <a:stretch/>
          </p:blipFill>
          <p:spPr>
            <a:xfrm>
              <a:off x="8244000" y="6165720"/>
              <a:ext cx="474480" cy="4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971640" y="6238800"/>
              <a:ext cx="7127640" cy="25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1150920" y="2384280"/>
            <a:ext cx="1042920" cy="1008000"/>
            <a:chOff x="1150920" y="2384280"/>
            <a:chExt cx="1042920" cy="1008000"/>
          </a:xfrm>
        </p:grpSpPr>
        <p:sp>
          <p:nvSpPr>
            <p:cNvPr id="184" name=""/>
            <p:cNvSpPr/>
            <p:nvPr/>
          </p:nvSpPr>
          <p:spPr>
            <a:xfrm>
              <a:off x="1168200" y="2384280"/>
              <a:ext cx="1008000" cy="10080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150920" y="2598480"/>
              <a:ext cx="1042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24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3132000" y="249408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0 извещателей и модулей в одной С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132000" y="2997360"/>
            <a:ext cx="56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ремя 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«Тревога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е более 1 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«Неисправность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е более 10 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132000" y="429264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лгоритм «Распределенный интеллек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736720" y="3772080"/>
            <a:ext cx="3384720" cy="1296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Цифровой протокол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ArgusDIGI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132000" y="242100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наружение двойной адрес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971640" y="6165720"/>
            <a:ext cx="7746840" cy="439920"/>
            <a:chOff x="971640" y="6165720"/>
            <a:chExt cx="7746840" cy="439920"/>
          </a:xfrm>
        </p:grpSpPr>
        <p:pic>
          <p:nvPicPr>
            <p:cNvPr id="193" name="" descr=""/>
            <p:cNvPicPr/>
            <p:nvPr/>
          </p:nvPicPr>
          <p:blipFill>
            <a:blip r:embed="rId1"/>
            <a:stretch/>
          </p:blipFill>
          <p:spPr>
            <a:xfrm>
              <a:off x="8244000" y="6165720"/>
              <a:ext cx="474480" cy="4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971640" y="6238800"/>
              <a:ext cx="7127640" cy="25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3564000" y="3592440"/>
            <a:ext cx="503280" cy="4842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4394160" y="3592440"/>
            <a:ext cx="503280" cy="4842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5114880" y="3592440"/>
            <a:ext cx="503280" cy="4842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5"/>
          <a:stretch/>
        </p:blipFill>
        <p:spPr>
          <a:xfrm>
            <a:off x="5113440" y="4743360"/>
            <a:ext cx="503280" cy="4842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6"/>
          <a:stretch/>
        </p:blipFill>
        <p:spPr>
          <a:xfrm>
            <a:off x="5832360" y="4175280"/>
            <a:ext cx="50328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7"/>
          <a:stretch/>
        </p:blipFill>
        <p:spPr>
          <a:xfrm>
            <a:off x="3565440" y="4745160"/>
            <a:ext cx="503280" cy="4842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8"/>
          <a:stretch/>
        </p:blipFill>
        <p:spPr>
          <a:xfrm>
            <a:off x="4392720" y="4745160"/>
            <a:ext cx="503280" cy="4842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3745080" y="3844800"/>
            <a:ext cx="144360" cy="1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92720" y="499572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745080" y="384480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9"/>
          <a:stretch/>
        </p:blipFill>
        <p:spPr>
          <a:xfrm>
            <a:off x="395280" y="3573360"/>
            <a:ext cx="2664000" cy="18986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755640" y="4041720"/>
            <a:ext cx="71280" cy="71640"/>
          </a:xfrm>
          <a:prstGeom prst="rect">
            <a:avLst/>
          </a:prstGeom>
          <a:solidFill>
            <a:srgbClr val="fc560c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132000" y="293544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ндикация на «двойника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4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4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Цифровой протокол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ArgusDIGI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132000" y="2421000"/>
            <a:ext cx="56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ониторинг качества сигнальной ли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дстройка параметров проток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971640" y="6165720"/>
            <a:ext cx="7746840" cy="439920"/>
            <a:chOff x="971640" y="6165720"/>
            <a:chExt cx="7746840" cy="439920"/>
          </a:xfrm>
        </p:grpSpPr>
        <p:pic>
          <p:nvPicPr>
            <p:cNvPr id="211" name="" descr=""/>
            <p:cNvPicPr/>
            <p:nvPr/>
          </p:nvPicPr>
          <p:blipFill>
            <a:blip r:embed="rId1"/>
            <a:stretch/>
          </p:blipFill>
          <p:spPr>
            <a:xfrm>
              <a:off x="8244000" y="6165720"/>
              <a:ext cx="474480" cy="4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971640" y="6238800"/>
              <a:ext cx="7127640" cy="25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1131840" y="3641760"/>
            <a:ext cx="2648160" cy="26668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1131840" y="3641760"/>
            <a:ext cx="2648160" cy="26668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4140360" y="3573360"/>
            <a:ext cx="2647800" cy="26672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5"/>
          <a:stretch/>
        </p:blipFill>
        <p:spPr>
          <a:xfrm>
            <a:off x="4140360" y="3573360"/>
            <a:ext cx="264780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mph" presetID="35" repeatCount="indefinite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4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mph" presetID="35" repeatCount="indefinite">
                                  <p:stCondLst>
                                    <p:cond delay="2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5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132000" y="324972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втоматическая и ручная адрес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971640" y="6165720"/>
            <a:ext cx="7746840" cy="439920"/>
            <a:chOff x="971640" y="6165720"/>
            <a:chExt cx="7746840" cy="439920"/>
          </a:xfrm>
        </p:grpSpPr>
        <p:pic>
          <p:nvPicPr>
            <p:cNvPr id="219" name="" descr=""/>
            <p:cNvPicPr/>
            <p:nvPr/>
          </p:nvPicPr>
          <p:blipFill>
            <a:blip r:embed="rId1"/>
            <a:stretch/>
          </p:blipFill>
          <p:spPr>
            <a:xfrm>
              <a:off x="8244000" y="6165720"/>
              <a:ext cx="474480" cy="4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971640" y="6238800"/>
              <a:ext cx="7127640" cy="25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Цифровой протокол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ArgusDIGI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3166920" y="4005360"/>
            <a:ext cx="1424160" cy="154296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3132000" y="2421000"/>
            <a:ext cx="56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строенные изоляторы коротких замык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324000" y="2241720"/>
            <a:ext cx="2663640" cy="189864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392720" y="462744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ограмматор «Аврора-3П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216000" y="1989000"/>
            <a:ext cx="2781360" cy="267660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звещате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132000" y="2421000"/>
            <a:ext cx="5508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-ступенчатые алгоритмы компенс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даптивный анализ опто- и термо- каналов (Аврора-ДТА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971640" y="6165720"/>
            <a:ext cx="7746840" cy="439920"/>
            <a:chOff x="971640" y="6165720"/>
            <a:chExt cx="7746840" cy="439920"/>
          </a:xfrm>
        </p:grpSpPr>
        <p:pic>
          <p:nvPicPr>
            <p:cNvPr id="230" name="" descr=""/>
            <p:cNvPicPr/>
            <p:nvPr/>
          </p:nvPicPr>
          <p:blipFill>
            <a:blip r:embed="rId2"/>
            <a:stretch/>
          </p:blipFill>
          <p:spPr>
            <a:xfrm>
              <a:off x="8244000" y="6165720"/>
              <a:ext cx="474480" cy="4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971640" y="6238800"/>
              <a:ext cx="7127640" cy="25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0T11:31:59Z</dcterms:created>
  <dc:creator>Dyatchenko Andrey</dc:creator>
  <dc:description/>
  <dc:language>en-US</dc:language>
  <cp:lastModifiedBy>Andrey</cp:lastModifiedBy>
  <dcterms:modified xsi:type="dcterms:W3CDTF">2007-07-08T19:05:38Z</dcterms:modified>
  <cp:revision>235</cp:revision>
  <dc:subject/>
  <dc:title>Пожарка</dc:title>
</cp:coreProperties>
</file>